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88DE-5BBC-4DA4-B032-036FA9870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488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47280" y="3964320"/>
            <a:ext cx="7488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5D29-C2FC-45FA-9B13-456AEF24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54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384520" y="1557000"/>
            <a:ext cx="3654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8DCB96-DD17-4956-8D45-5FD18ADC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86F14C-FB8F-4047-AFB2-AEC14028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916000" y="115560"/>
            <a:ext cx="61196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E23F3-4BC7-484B-98EA-3E453EFF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384520" y="1557000"/>
            <a:ext cx="3654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1547280" y="396432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165222-D679-49B4-A1AC-BE466D89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54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38452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384520" y="396432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72D985-637C-4AFC-8371-E6CDD390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38452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547280" y="3964320"/>
            <a:ext cx="7488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BAEA88-262D-4654-BE06-3223193D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488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1547280" y="3964320"/>
            <a:ext cx="7488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1AD322-1890-41FB-8B44-2145BAE3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38452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547280" y="396432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5384520" y="396432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E5C43F-DC36-4E83-A65C-0FE35EDE1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079160" y="155700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611040" y="155700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1547280" y="396432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079160" y="396432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611040" y="396432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27570A-78C2-4E29-91D7-5DF12AA3E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1B697C-C6CF-4D17-A099-932057928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8452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47280" y="396432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84520" y="396432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3802-DBF4-4483-A514-A9E1E09A6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1547280" y="1557000"/>
            <a:ext cx="748836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FF9BCF-F2E3-4F97-B596-04E8B1DA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488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A4A9E0-4748-4D0B-9053-607496E7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54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384520" y="1557000"/>
            <a:ext cx="3654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845309-F49A-4D58-82AB-03DF79B9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927C5F-84C2-4620-9A71-8B50C6E8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916000" y="115560"/>
            <a:ext cx="61196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630459-A688-4F9A-B5BC-A753BD8B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84520" y="1557000"/>
            <a:ext cx="3654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547280" y="396432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604A33-E978-4CE6-B247-AA91DDAB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54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38452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384520" y="396432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BEBDB5-56B2-4A08-99C1-E1A08327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38452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547280" y="3964320"/>
            <a:ext cx="7488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EF923-1254-4401-A1B5-4504F77B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488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1547280" y="3964320"/>
            <a:ext cx="7488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96E078-7E85-46B4-8E5D-D7CC0750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38452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1547280" y="396432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5384520" y="396432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2D317A-20AA-4AB9-AA7D-366C8D749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79160" y="155700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11040" y="155700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47280" y="396432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079160" y="396432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11040" y="396432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6033-2B78-4BEB-92EE-9294B786F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079160" y="155700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611040" y="155700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1547280" y="396432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079160" y="396432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611040" y="396432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70774A-84FC-40E8-9B82-4AAF5EB23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CBF450-7649-4717-B6AB-5E54423DC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547280" y="1557000"/>
            <a:ext cx="748836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B907BE-6F1A-4D51-9564-63A23E35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488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A1F5A-776C-45E6-B232-EC83325B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54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384520" y="1557000"/>
            <a:ext cx="3654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5AC15-2943-4D4A-B113-84B2EB92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FE2998-3473-459C-9DB1-F026EC02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916000" y="115560"/>
            <a:ext cx="61196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2776CB-29A5-43A3-A266-C7F9EC56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384520" y="1557000"/>
            <a:ext cx="3654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1547280" y="396432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35DCB5-CFAB-4C9A-9DD6-EF2D8514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54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38452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384520" y="396432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31148-2C58-4B3B-AAA8-7F58A328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38452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547280" y="3964320"/>
            <a:ext cx="7488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C19D5-F0B9-438F-8E99-31265131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3729-9F43-4F12-ADD7-EFD25D6BD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488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1547280" y="3964320"/>
            <a:ext cx="7488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86CA4-BA4C-439C-8DAA-F3DF08CB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38452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1547280" y="396432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384520" y="396432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140707-BF16-4275-B588-71E9028EF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079160" y="155700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611040" y="155700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1547280" y="396432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4079160" y="396432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611040" y="396432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239813-3410-44C2-A432-7D0221372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F54B55-9889-4CB3-9201-89404FD3F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1547280" y="1557000"/>
            <a:ext cx="748836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D5E5DB-DEEE-4673-B18F-E7B8A323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488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493C31-5925-4996-BC67-D5CC3E09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54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384520" y="1557000"/>
            <a:ext cx="3654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F4420E-1F19-4AFA-97E1-8AA8E356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7F709D-82F3-45AE-BEF7-BBC081EB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916000" y="115560"/>
            <a:ext cx="61196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D5EB8B-13E3-41B5-8D36-BF5D4FA4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384520" y="1557000"/>
            <a:ext cx="3654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1547280" y="396432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18FC34-E183-42F4-BD1D-C7C6C38B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47280" y="1557000"/>
            <a:ext cx="748836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8EDA-53FA-4EB4-8DBD-B32EE78A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54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38452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384520" y="396432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DCCDA7-8448-46ED-BC1C-666B329E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38452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1547280" y="3964320"/>
            <a:ext cx="7488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8D6C9A-0E8F-46B3-B2A8-E8EEF58F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488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1547280" y="3964320"/>
            <a:ext cx="7488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0C116E-3700-45DF-BDEB-6DEB2826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38452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547280" y="396432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384520" y="396432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6E92B8-C4E2-4BC7-ACD6-84446E9D3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079160" y="155700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611040" y="155700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1547280" y="396432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4079160" y="396432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611040" y="396432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51B387-AE52-4812-99C2-3E501661B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488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110A-E0E8-4DBC-9186-516075B4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54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84520" y="1557000"/>
            <a:ext cx="3654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C67C-57DF-4FC6-9A48-A21C591F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5CFB-0D79-44F6-9FB6-5FA27B52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916000" y="115560"/>
            <a:ext cx="61196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8F5B-D6E8-4F10-A3FB-01458931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84520" y="1557000"/>
            <a:ext cx="3654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547280" y="396432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4803-8A37-4FAE-A685-68554A43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47280" y="1557000"/>
            <a:ext cx="748836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6148-D32A-474D-BC71-BE545FAE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54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8452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84520" y="396432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2EDC-D694-4B0D-AEC2-134474B7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8452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547280" y="3964320"/>
            <a:ext cx="7488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56EF-5868-4A6F-AA85-BFAAA2DE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488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547280" y="3964320"/>
            <a:ext cx="7488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2F87-B588-48BC-8557-991ABB04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8452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547280" y="396432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84520" y="396432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052A-E566-4CB2-B36F-8821C1E9B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79160" y="155700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11040" y="155700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547280" y="396432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079160" y="396432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11040" y="396432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E014-36A1-4FE2-9409-CAE8DD99C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4613A-7B83-4BCE-9A73-7C47A0001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547280" y="1557000"/>
            <a:ext cx="748836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2760F-CF2A-456A-8BC9-78F59103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488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0185D-5BE3-42CB-9BFF-BCBB179A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54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384520" y="1557000"/>
            <a:ext cx="3654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B346D-3C9E-47E0-B3CB-71F05F6B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992E9-2C03-48C6-8F93-0B2C4A58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488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71F2-9B12-41E1-893F-E86E0642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916000" y="115560"/>
            <a:ext cx="61196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41919-80FF-4F85-8302-29850382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84520" y="1557000"/>
            <a:ext cx="3654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547280" y="396432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FFAE0-F506-4E89-A49B-4756DA3F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54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8452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84520" y="396432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21B2D-F6E3-42B7-B484-5FE85518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8452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547280" y="3964320"/>
            <a:ext cx="7488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A91B8-B9D9-480A-887B-5EC359F3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488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547280" y="3964320"/>
            <a:ext cx="7488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39535-FA77-4985-8766-FA3798E6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38452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547280" y="396432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384520" y="396432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AAD78-A5DD-4A63-8AB4-DAEBF846B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079160" y="155700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611040" y="155700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547280" y="396432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079160" y="396432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611040" y="396432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339E9-CA19-4C99-AA8E-2BD1D87DC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B2038-B9C6-4E8C-849C-E5BC24730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547280" y="1557000"/>
            <a:ext cx="748836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94192-9769-445B-9965-12E72D1A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488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EFE16-30D9-4894-82C8-FD502694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54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384520" y="1557000"/>
            <a:ext cx="3654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BAB0-23A0-45E3-9434-A9145FC3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54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384520" y="1557000"/>
            <a:ext cx="3654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72528-C0DC-44AC-A220-78885200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23F7C-A39B-4143-8EBA-F5BE8D28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916000" y="115560"/>
            <a:ext cx="61196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AD140-B2B3-4764-8B8F-91558D67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384520" y="1557000"/>
            <a:ext cx="3654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547280" y="396432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D41E5-F814-438A-B84F-B06330FE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54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38452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384520" y="396432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0CFEF-5E86-461A-B5DC-3427C2B3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8452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47280" y="3964320"/>
            <a:ext cx="7488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57DC6-6FC4-4A52-A106-2B67A8B7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488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547280" y="3964320"/>
            <a:ext cx="7488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9445A-C4C4-4BCC-A18C-D34028D9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38452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547280" y="396432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384520" y="396432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884F5-30F4-4C25-9E3E-EB7F8E5CF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079160" y="155700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611040" y="155700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547280" y="396432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079160" y="396432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611040" y="396432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06E1A-27AB-49F4-8C37-4BBEC2748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3430C-BA3A-4BEA-BE2E-12A4D914B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B013-7383-40CB-A944-5737A80A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547280" y="1557000"/>
            <a:ext cx="748836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21707-98A8-4AAB-9B95-91BF10C4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488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9A58A-AC40-47B2-B2D5-11E7D1BA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54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84520" y="1557000"/>
            <a:ext cx="3654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4504E-728A-4418-9A3D-C5B0ACAE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5C49D-6A7F-4D04-873E-A6EDF9B9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916000" y="115560"/>
            <a:ext cx="61196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5EE31-76B6-4183-B861-AF001A23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384520" y="1557000"/>
            <a:ext cx="3654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547280" y="396432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D4CC1-0A32-40CF-890E-9DC2FC76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54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38452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84520" y="396432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256DB-B272-4655-931B-5B56482D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38452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547280" y="3964320"/>
            <a:ext cx="7488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6E672-9F0D-4108-95CE-398F6C0C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488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547280" y="3964320"/>
            <a:ext cx="7488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59454-3062-4FB3-B389-42C47395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38452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547280" y="396432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384520" y="396432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831F1-3C27-4174-84BE-F55E2AA78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916000" y="115560"/>
            <a:ext cx="61196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4740-0D49-463B-8055-F9AF616D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079160" y="155700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611040" y="155700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547280" y="396432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4079160" y="396432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611040" y="396432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D64DD-4D51-4997-BF17-92E3C7592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6A697-0775-4B42-B0CB-4B0A5674D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547280" y="1557000"/>
            <a:ext cx="748836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223CC-99F4-44EA-A096-84AF6AF4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488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2FDDD-144D-4A29-9BEC-65C297AF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54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384520" y="1557000"/>
            <a:ext cx="3654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4784F-B0FD-4E17-A62F-22A18717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01905-6C1F-4C11-9439-6498851F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2916000" y="115560"/>
            <a:ext cx="61196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25923-5EBB-4B4F-A0F8-EDCF173F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384520" y="1557000"/>
            <a:ext cx="3654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547280" y="396432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32EAD-4801-4566-8E23-3CF09A6B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54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38452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384520" y="396432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DB780-AB05-418A-A10A-D47A3929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38452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547280" y="3964320"/>
            <a:ext cx="7488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03D56-79C1-4028-B2C1-475D10D8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84520" y="1557000"/>
            <a:ext cx="3654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47280" y="396432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5194-844F-419C-A969-113129CA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488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1547280" y="3964320"/>
            <a:ext cx="7488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48D42-7CA1-4B39-A892-3B6E9A74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38452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547280" y="396432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384520" y="396432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F9991-EF86-47A0-B106-B8C61AD36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079160" y="155700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611040" y="155700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1547280" y="396432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4079160" y="396432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611040" y="396432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FCDFC-9E0B-40C1-8F5B-49EF04CD9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DC283-24DA-4F35-B901-CF0DAD27E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547280" y="1557000"/>
            <a:ext cx="748836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89652-FE91-422E-B41B-EB07470F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488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33F1F-B8F4-4EEB-8BB4-B6035D07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54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84520" y="1557000"/>
            <a:ext cx="3654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12B2E-1416-462C-9607-AC56DD08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48D02-15E1-4FB2-AF98-9BA01B62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2916000" y="115560"/>
            <a:ext cx="61196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38024-9C19-40D2-913F-8551CAD0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384520" y="1557000"/>
            <a:ext cx="3654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547280" y="396432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F725A-A5A7-426A-87DB-9CEB4D31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54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8452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84520" y="396432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FA37-D85E-47E9-982D-151C30EC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54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38452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384520" y="396432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6691C-0106-4BF0-B0F4-A5E45722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38452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547280" y="3964320"/>
            <a:ext cx="7488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074A6-3696-44A2-BB87-3A3EF6B5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488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547280" y="3964320"/>
            <a:ext cx="7488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BD31A-BB80-42A3-82DA-A4D344C9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38452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547280" y="396432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84520" y="396432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9834C-DF21-4169-9E0B-959A949EB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079160" y="155700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11040" y="155700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547280" y="396432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4079160" y="396432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611040" y="396432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C260F-387A-44F6-B689-F183EFD68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F8F1A-87EA-45FB-B630-EEECA7720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547280" y="1557000"/>
            <a:ext cx="748836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7A938-618E-4B99-916E-AB9C6DE1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488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0E7E8-DC75-4660-A081-7294ED19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54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384520" y="1557000"/>
            <a:ext cx="3654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D8465-DDB6-4FAE-A4C5-02B43B7C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82B95-B888-4504-90FA-868FD696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452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47280" y="3964320"/>
            <a:ext cx="7488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0EFD-B453-47A1-8B91-96DE1E5B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2916000" y="115560"/>
            <a:ext cx="61196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92B48-9256-4244-A3EF-E1556FFA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384520" y="1557000"/>
            <a:ext cx="3654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547280" y="396432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E6A1A-0877-45AE-BA9E-88406876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54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38452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384520" y="396432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C87CD-BAC4-4F7E-96BF-D002EE09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38452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547280" y="3964320"/>
            <a:ext cx="7488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AA263-985F-40D5-810F-E0F8E328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488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547280" y="3964320"/>
            <a:ext cx="7488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45A5D-2A77-499B-8D69-61D60833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84520" y="155700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547280" y="396432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384520" y="3964320"/>
            <a:ext cx="3654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D4474-5EFA-4FF1-B27C-C74DDF37A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079160" y="155700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611040" y="155700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547280" y="396432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079160" y="396432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611040" y="3964320"/>
            <a:ext cx="24109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CE7DA-1615-4490-8495-5165BC324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F55CFB-DB72-4862-AF7E-514687B11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547280" y="1557000"/>
            <a:ext cx="748836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00D81A-F7EF-4039-99FA-15E40AF0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488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97ADCF-8C1B-40BC-96E0-EE3F77BE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s://presentation-creation.ru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hyperlink" Target="https://presentation-creation.ru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hyperlink" Target="https://presentation-creation.ru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hyperlink" Target="https://presentation-creation.ru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hyperlink" Target="https://presentation-creation.ru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3a3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47280" y="1557000"/>
            <a:ext cx="7488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3a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a3a3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a3a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a3a3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a3a3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a3a3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a3a3a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a3a3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E190-7113-41D9-82E8-6B0A0503BE3A}" type="slidenum">
              <a:rPr b="0" lang="ru-RU" sz="1200" spc="-1" strike="noStrike">
                <a:solidFill>
                  <a:srgbClr val="3a3a3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Рисунок 6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Рисунок 6" descr=""/>
          <p:cNvPicPr/>
          <p:nvPr/>
        </p:nvPicPr>
        <p:blipFill>
          <a:blip r:embed="rId3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3a3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1547280" y="1557000"/>
            <a:ext cx="7488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3a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a3a3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a3a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a3a3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a3a3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949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49494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9494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3082-D1F3-44B2-A396-E5949AFFEBDA}" type="slidenum">
              <a:rPr b="0" lang="ru-RU" sz="1200" spc="-1" strike="noStrike">
                <a:solidFill>
                  <a:srgbClr val="94949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Рисунок 6" descr=""/>
          <p:cNvPicPr/>
          <p:nvPr/>
        </p:nvPicPr>
        <p:blipFill>
          <a:blip r:embed="rId3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3a3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1547280" y="1557000"/>
            <a:ext cx="7488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3a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a3a3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a3a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a3a3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a3a3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949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49494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9494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00D4-ED52-4396-9D9D-F1F63DDA8E95}" type="slidenum">
              <a:rPr b="0" lang="ru-RU" sz="1200" spc="-1" strike="noStrike">
                <a:solidFill>
                  <a:srgbClr val="94949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Рисунок 6" descr=""/>
          <p:cNvPicPr/>
          <p:nvPr/>
        </p:nvPicPr>
        <p:blipFill>
          <a:blip r:embed="rId3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3a3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1547280" y="1557000"/>
            <a:ext cx="7488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3a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a3a3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a3a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a3a3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a3a3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949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49494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9494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1E9A-BBFA-4227-BFCA-89E47568974D}" type="slidenum">
              <a:rPr b="0" lang="ru-RU" sz="1200" spc="-1" strike="noStrike">
                <a:solidFill>
                  <a:srgbClr val="94949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3a3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547280" y="1557000"/>
            <a:ext cx="7488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3a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a3a3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a3a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a3a3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a3a3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a3a3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a3a3a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a3a3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BB8D-92CE-48B3-88F1-4D5B711405FD}" type="slidenum">
              <a:rPr b="0" lang="ru-RU" sz="1200" spc="-1" strike="noStrike">
                <a:solidFill>
                  <a:srgbClr val="3a3a3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6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5"/>
          <p:cNvSpPr/>
          <p:nvPr/>
        </p:nvSpPr>
        <p:spPr>
          <a:xfrm>
            <a:off x="6705720" y="6508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3a3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547280" y="1557000"/>
            <a:ext cx="7488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3a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a3a3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a3a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a3a3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a3a3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a3a3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a3a3a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a3a3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412A-C16D-45BD-B0F6-8451DB955560}" type="slidenum">
              <a:rPr b="0" lang="ru-RU" sz="1200" spc="-1" strike="noStrike">
                <a:solidFill>
                  <a:srgbClr val="3a3a3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6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3a3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547280" y="1557000"/>
            <a:ext cx="7488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3a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a3a3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a3a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a3a3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a3a3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2f2f2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2f2f2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D322-7B11-4005-9CCA-BE3964EA4DAE}" type="slidenum">
              <a:rPr b="0" lang="ru-RU" sz="1200" spc="-1" strike="noStrike">
                <a:solidFill>
                  <a:srgbClr val="f2f2f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6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3a3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547280" y="1557000"/>
            <a:ext cx="7488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3a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a3a3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a3a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a3a3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a3a3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2f2f2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2f2f2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7C90-0C07-49FE-98DF-E7D0181769DB}" type="slidenum">
              <a:rPr b="0" lang="ru-RU" sz="1200" spc="-1" strike="noStrike">
                <a:solidFill>
                  <a:srgbClr val="f2f2f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Рисунок 6" descr=""/>
          <p:cNvPicPr/>
          <p:nvPr/>
        </p:nvPicPr>
        <p:blipFill>
          <a:blip r:embed="rId3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3a3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1547280" y="1557000"/>
            <a:ext cx="7488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3a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a3a3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a3a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a3a3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a3a3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1374840" y="6409800"/>
            <a:ext cx="12160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949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49494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4154400" y="6356520"/>
            <a:ext cx="164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7470720" y="6356520"/>
            <a:ext cx="121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9494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D45E-51CF-45FF-BA53-30A9C9630B6F}" type="slidenum">
              <a:rPr b="0" lang="ru-RU" sz="1200" spc="-1" strike="noStrike">
                <a:solidFill>
                  <a:srgbClr val="94949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Рисунок 6" descr=""/>
          <p:cNvPicPr/>
          <p:nvPr/>
        </p:nvPicPr>
        <p:blipFill>
          <a:blip r:embed="rId3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3a3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1547280" y="1557000"/>
            <a:ext cx="7488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3a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a3a3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a3a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a3a3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a3a3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949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49494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9494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24EB-3838-492A-956C-BAAB7CE9F14E}" type="slidenum">
              <a:rPr b="0" lang="ru-RU" sz="1200" spc="-1" strike="noStrike">
                <a:solidFill>
                  <a:srgbClr val="94949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Рисунок 6" descr=""/>
          <p:cNvPicPr/>
          <p:nvPr/>
        </p:nvPicPr>
        <p:blipFill>
          <a:blip r:embed="rId3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3a3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1547280" y="1557000"/>
            <a:ext cx="7488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3a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a3a3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a3a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a3a3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a3a3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949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49494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9494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39A2-BB13-4A3C-90E1-FBB5432EDF63}" type="slidenum">
              <a:rPr b="0" lang="ru-RU" sz="1200" spc="-1" strike="noStrike">
                <a:solidFill>
                  <a:srgbClr val="94949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Рисунок 6" descr=""/>
          <p:cNvPicPr/>
          <p:nvPr/>
        </p:nvPicPr>
        <p:blipFill>
          <a:blip r:embed="rId3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3a3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1547280" y="1557000"/>
            <a:ext cx="7488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3a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a3a3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a3a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a3a3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a3a3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3a3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949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49494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9494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7B9D-6FD9-4191-A2F2-937B425C12DA}" type="slidenum">
              <a:rPr b="0" lang="ru-RU" sz="1200" spc="-1" strike="noStrike">
                <a:solidFill>
                  <a:srgbClr val="94949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Содержимое 6" descr=""/>
          <p:cNvPicPr/>
          <p:nvPr/>
        </p:nvPicPr>
        <p:blipFill>
          <a:blip r:embed="rId1"/>
          <a:stretch/>
        </p:blipFill>
        <p:spPr>
          <a:xfrm>
            <a:off x="426960" y="176040"/>
            <a:ext cx="8624880" cy="290844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2" descr=""/>
          <p:cNvPicPr/>
          <p:nvPr/>
        </p:nvPicPr>
        <p:blipFill>
          <a:blip r:embed="rId2"/>
          <a:stretch/>
        </p:blipFill>
        <p:spPr>
          <a:xfrm>
            <a:off x="15840" y="3933720"/>
            <a:ext cx="3360600" cy="2644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07" name="Рисунок 7" descr=""/>
          <p:cNvPicPr/>
          <p:nvPr/>
        </p:nvPicPr>
        <p:blipFill>
          <a:blip r:embed="rId3"/>
          <a:srcRect l="2537" t="28438" r="79683" b="53169"/>
          <a:stretch/>
        </p:blipFill>
        <p:spPr>
          <a:xfrm>
            <a:off x="15840" y="57240"/>
            <a:ext cx="1441440" cy="838080"/>
          </a:xfrm>
          <a:prstGeom prst="rect">
            <a:avLst/>
          </a:prstGeom>
          <a:ln w="0">
            <a:noFill/>
          </a:ln>
        </p:spPr>
      </p:pic>
      <p:sp>
        <p:nvSpPr>
          <p:cNvPr id="508" name="TextBox 1"/>
          <p:cNvSpPr/>
          <p:nvPr/>
        </p:nvSpPr>
        <p:spPr>
          <a:xfrm>
            <a:off x="1619280" y="1400040"/>
            <a:ext cx="66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Palatino Linotype"/>
              </a:rPr>
              <a:t>Рекомендації щодо заповнення сторінок Класного журнал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Palatino Linotype"/>
              </a:rPr>
              <a:t>учнів 1-4-х класів НУШ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Palatino Linotype"/>
              </a:rPr>
              <a:t>Матема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2"/>
          <p:cNvSpPr/>
          <p:nvPr/>
        </p:nvSpPr>
        <p:spPr>
          <a:xfrm>
            <a:off x="3924360" y="5084640"/>
            <a:ext cx="482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000" spc="-1" strike="noStrike">
                <a:solidFill>
                  <a:srgbClr val="7030a0"/>
                </a:solidFill>
                <a:latin typeface="Century Gothic"/>
              </a:rPr>
              <a:t>Гезей О.М., ст. викладач кафедри методики дошкільної та початкової освіти КВНЗ «Харківська академія неперервної освіт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Прямоугольник 1"/>
          <p:cNvSpPr/>
          <p:nvPr/>
        </p:nvSpPr>
        <p:spPr>
          <a:xfrm>
            <a:off x="0" y="324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030a0"/>
                </a:solidFill>
                <a:latin typeface="Times New Roman"/>
              </a:rPr>
              <a:t>Приклад оформлення зведеного обліку      результатів навчання з матема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Прямоугольник 2"/>
          <p:cNvSpPr/>
          <p:nvPr/>
        </p:nvSpPr>
        <p:spPr>
          <a:xfrm>
            <a:off x="324000" y="1047600"/>
            <a:ext cx="83516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ІІ. Облік навчальних досягнень учнів. Інваріантна склад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Матема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Таблица 3" descr=""/>
          <p:cNvPicPr/>
          <p:nvPr/>
        </p:nvPicPr>
        <p:blipFill>
          <a:blip r:embed="rId1"/>
          <a:stretch/>
        </p:blipFill>
        <p:spPr>
          <a:xfrm>
            <a:off x="201600" y="2146320"/>
            <a:ext cx="8613720" cy="41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Прямоугольник 1"/>
          <p:cNvSpPr/>
          <p:nvPr/>
        </p:nvSpPr>
        <p:spPr>
          <a:xfrm>
            <a:off x="0" y="205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030a0"/>
                </a:solidFill>
                <a:latin typeface="Times New Roman"/>
              </a:rPr>
              <a:t>Приклад оформлення зведеного обліку      результатів навчання з матема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Прямоугольник 2"/>
          <p:cNvSpPr/>
          <p:nvPr/>
        </p:nvSpPr>
        <p:spPr>
          <a:xfrm>
            <a:off x="622080" y="1098720"/>
            <a:ext cx="428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Вчитель__</a:t>
            </a:r>
            <a:r>
              <a:rPr b="1" lang="uk-UA" sz="2000" spc="-1" strike="noStrike">
                <a:solidFill>
                  <a:srgbClr val="002060"/>
                </a:solidFill>
                <a:latin typeface="Times New Roman"/>
              </a:rPr>
              <a:t>Іванова Марія Петрі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0" y="1515960"/>
          <a:ext cx="9144000" cy="5948640"/>
        </p:xfrm>
        <a:graphic>
          <a:graphicData uri="http://schemas.openxmlformats.org/drawingml/2006/table">
            <a:tbl>
              <a:tblPr/>
              <a:tblGrid>
                <a:gridCol w="611280"/>
                <a:gridCol w="1087200"/>
                <a:gridCol w="5099040"/>
                <a:gridCol w="2346480"/>
              </a:tblGrid>
              <a:tr h="524880">
                <a:tc>
                  <a:txBody>
                    <a:bodyPr lIns="0" rIns="0" tIns="0" bIns="0" anchor="ctr">
                      <a:noAutofit/>
                    </a:bodyPr>
                    <a:p>
                      <a:pPr marL="152280">
                        <a:lnSpc>
                          <a:spcPts val="11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52280">
                        <a:lnSpc>
                          <a:spcPts val="11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01520">
                        <a:lnSpc>
                          <a:spcPts val="11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МІС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дання додо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6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О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12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стосовує математику для розв’язання життєвих, побутових ситуаці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0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О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в’язує задачі з використанням різн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і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0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О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ізує дані, процес та результат розв’язання навчальних і практичних задач, критично їх оціню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О 4.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ифікує, порівнює, узагальнює об’єк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0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О 4.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тановлює кількість об’єктів, позначає результат     лічби числом, порівнює чи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О 4.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ійснює обчислення усно та письмо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О 4.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ієнтується на площині та в простор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О 4.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пізнає геометричні фігу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О 4.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дує геометричні фігури, конструю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О 4.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мірює величи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0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О 4.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цює з таблицями, схемами, графіками, діаграм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Прямоугольник 1"/>
          <p:cNvSpPr/>
          <p:nvPr/>
        </p:nvSpPr>
        <p:spPr>
          <a:xfrm>
            <a:off x="0" y="0"/>
            <a:ext cx="896472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Palatino Linotype"/>
                <a:ea typeface="Times New Roman"/>
              </a:rPr>
              <a:t>Методичні рекомендації щодо оцінювання результатів навчання учнів 3-х і 4-х класів НУ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Palatino Linotype"/>
                <a:ea typeface="Times New Roman"/>
              </a:rPr>
              <a:t>(Наказ МОН України від 16.09.2020 № 114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Прямоугольник 2"/>
          <p:cNvSpPr/>
          <p:nvPr/>
        </p:nvSpPr>
        <p:spPr>
          <a:xfrm>
            <a:off x="449280" y="2205000"/>
            <a:ext cx="8066160" cy="32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374a"/>
                </a:solidFill>
                <a:latin typeface="Palatino Linotype"/>
                <a:ea typeface="Times New Roman"/>
              </a:rPr>
              <a:t>Об’єкти формувального оцінюванн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7000"/>
              </a:lnSpc>
              <a:buClr>
                <a:srgbClr val="04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374a"/>
                </a:solidFill>
                <a:latin typeface="Palatino Linotype"/>
                <a:ea typeface="Times New Roman"/>
              </a:rPr>
              <a:t>процес навчання учнів, зорієнтований на досягнення визначеного очікуваного результа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7000"/>
              </a:lnSpc>
              <a:buClr>
                <a:srgbClr val="04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7000"/>
              </a:lnSpc>
              <a:buClr>
                <a:srgbClr val="04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374a"/>
                </a:solidFill>
                <a:latin typeface="Palatino Linotype"/>
                <a:ea typeface="Times New Roman"/>
              </a:rPr>
              <a:t>результат їх навчальної діяльності на певному етапі навч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Прямоугольник 1"/>
          <p:cNvSpPr/>
          <p:nvPr/>
        </p:nvSpPr>
        <p:spPr>
          <a:xfrm>
            <a:off x="0" y="0"/>
            <a:ext cx="896472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Palatino Linotype"/>
                <a:ea typeface="Times New Roman"/>
              </a:rPr>
              <a:t>Методичні рекомендації щодо оцінювання результатів навчання учнів 3-х і 4-х класів НУ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Palatino Linotype"/>
                <a:ea typeface="Times New Roman"/>
              </a:rPr>
              <a:t>(Наказ МОН України від 16.09.2020 № 114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Прямоугольник 2"/>
          <p:cNvSpPr/>
          <p:nvPr/>
        </p:nvSpPr>
        <p:spPr>
          <a:xfrm>
            <a:off x="449280" y="1341360"/>
            <a:ext cx="8066160" cy="56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374a"/>
                </a:solidFill>
                <a:latin typeface="Palatino Linotype"/>
              </a:rPr>
              <a:t>Формувальне оцінювання здійснюється шляхо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4374a"/>
                </a:solidFill>
                <a:latin typeface="Palatino Linotype"/>
              </a:rPr>
              <a:t>педагогічного спостереження учителя за навчальною та іншими видами діяльності учні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4374a"/>
                </a:solidFill>
                <a:latin typeface="Palatino Linotype"/>
              </a:rPr>
              <a:t>аналізу портфоліо учнівських робіт, попередніх навчальних досягнень учнів, результатів їхніх діагностичних робі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4374a"/>
                </a:solidFill>
                <a:latin typeface="Palatino Linotype"/>
              </a:rPr>
              <a:t>самооцінювання та взаємооцінювання результатів діяльності учні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4374a"/>
                </a:solidFill>
                <a:latin typeface="Palatino Linotype"/>
              </a:rPr>
              <a:t>оцінювання особистісного розвитку та соціалізації учнів їхніми батьк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4374a"/>
                </a:solidFill>
                <a:latin typeface="Palatino Linotype"/>
              </a:rPr>
              <a:t>застосування прийомів отримання зворотного зв’язку щодо сприйняття та розуміння учнями навчального матеріал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Прямоугольник 1"/>
          <p:cNvSpPr/>
          <p:nvPr/>
        </p:nvSpPr>
        <p:spPr>
          <a:xfrm>
            <a:off x="324000" y="648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Palatino Linotype"/>
                <a:ea typeface="Times New Roman"/>
              </a:rPr>
              <a:t>Алгоритм діяльності вчителя під час організації формувального оцінюв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2"/>
          <p:cNvSpPr/>
          <p:nvPr/>
        </p:nvSpPr>
        <p:spPr>
          <a:xfrm>
            <a:off x="468360" y="152712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Palatino Linotype"/>
              </a:rPr>
              <a:t>Формулювання об</a:t>
            </a:r>
            <a:r>
              <a:rPr b="1" lang="en-US" sz="2400" spc="-1" strike="noStrike">
                <a:solidFill>
                  <a:srgbClr val="002060"/>
                </a:solidFill>
                <a:latin typeface="Palatino Linotype"/>
              </a:rPr>
              <a:t>'</a:t>
            </a:r>
            <a:r>
              <a:rPr b="1" lang="uk-UA" sz="2400" spc="-1" strike="noStrike">
                <a:solidFill>
                  <a:srgbClr val="002060"/>
                </a:solidFill>
                <a:latin typeface="Palatino Linotype"/>
              </a:rPr>
              <a:t>єктивних і зрозумілих для учнів навчальних ці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Palatino Linotype"/>
              </a:rPr>
              <a:t>Ознайомлення учнів із критеріями оцінюв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Palatino Linotype"/>
              </a:rPr>
              <a:t>Забезпечення активної участі учнів у процесі оцінюв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Palatino Linotype"/>
              </a:rPr>
              <a:t>Забезпечення можливості й уміння учнів аналізувати власну діяльність (рефлексі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Palatino Linotype"/>
              </a:rPr>
              <a:t>Корегування спільно з учнями підходів до навчання з урахуванням результатів оцінюв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3"/>
          <p:cNvSpPr/>
          <p:nvPr/>
        </p:nvSpPr>
        <p:spPr>
          <a:xfrm>
            <a:off x="2916360" y="5084640"/>
            <a:ext cx="611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Palatino Linotype"/>
              </a:rPr>
              <a:t>Про затвердження методичних рекомендацій щодо оцінювання навчальних досягнень учнів першого класу НУШ (наказ Мон україни від 10.08.18 № 92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"/>
          <p:cNvSpPr/>
          <p:nvPr/>
        </p:nvSpPr>
        <p:spPr>
          <a:xfrm>
            <a:off x="179280" y="836640"/>
            <a:ext cx="88567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4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4374a"/>
                </a:solidFill>
                <a:latin typeface="Palatino Linotype"/>
              </a:rPr>
              <a:t>Педагогічне спостереження за різними видами діяльності учня здійснюється учителем протягом рок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4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4374a"/>
                </a:solidFill>
                <a:latin typeface="Palatino Linotype"/>
              </a:rPr>
              <a:t>Результати педагогічних спостережень рекомендуємо фіксувати у зошиті спостережень учителя</a:t>
            </a:r>
            <a:r>
              <a:rPr b="1" lang="ru-RU" sz="2200" spc="-1" strike="noStrike">
                <a:solidFill>
                  <a:srgbClr val="04374a"/>
                </a:solidFill>
                <a:latin typeface="Palatino Linotype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4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4374a"/>
                </a:solidFill>
                <a:latin typeface="Palatino Linotype"/>
              </a:rPr>
              <a:t>Іншим способом фіксації педагогічних спостережень може бути заповнення індивідуальної картки навчального поступу учня. Учитель може самостійно розробити оцінювальний аркуш з метою визначення рівня засвоєння матеріалу кожного розділу відповідно до навчальної прогр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4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4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4374a"/>
                </a:solidFill>
                <a:latin typeface="Palatino Linotype"/>
              </a:rPr>
              <a:t>Учнівські портфоліо (папки з прикріпленими аркушами таблиці для переліку робіт та графою для дати або іншому форматі, за спільним рішенням учителя та учнів) передбачають систематизацію робіт учні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Прямоугольник 2" descr=""/>
          <p:cNvPicPr/>
          <p:nvPr/>
        </p:nvPicPr>
        <p:blipFill>
          <a:blip r:embed="rId1"/>
          <a:stretch/>
        </p:blipFill>
        <p:spPr>
          <a:xfrm>
            <a:off x="341280" y="0"/>
            <a:ext cx="8534520" cy="523800"/>
          </a:xfrm>
          <a:prstGeom prst="rect">
            <a:avLst/>
          </a:prstGeom>
          <a:ln w="0">
            <a:noFill/>
          </a:ln>
        </p:spPr>
      </p:pic>
      <p:sp>
        <p:nvSpPr>
          <p:cNvPr id="558" name="TextBox 3"/>
          <p:cNvSpPr/>
          <p:nvPr/>
        </p:nvSpPr>
        <p:spPr>
          <a:xfrm>
            <a:off x="2541600" y="5889600"/>
            <a:ext cx="632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Palatino Linotype"/>
              </a:rPr>
              <a:t>Про затвердження методичних рекомендацій щодо оцінювання навчальних досягнень учнів другого класу НУШ (від 27.08.19 № 115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Прямоугольник 1"/>
          <p:cNvSpPr/>
          <p:nvPr/>
        </p:nvSpPr>
        <p:spPr>
          <a:xfrm>
            <a:off x="1332000" y="2133720"/>
            <a:ext cx="7127640" cy="33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Palatino Linotype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333399"/>
                </a:solidFill>
                <a:latin typeface="Palatino Linotype"/>
                <a:ea typeface="Times New Roman"/>
              </a:rPr>
              <a:t>Підсумкове оцінювання (тематичне, семестрове і річне) у третіх та </a:t>
            </a:r>
            <a:r>
              <a:rPr b="1" lang="ru-RU" sz="2200" spc="-1" strike="noStrike">
                <a:solidFill>
                  <a:srgbClr val="c00000"/>
                </a:solidFill>
                <a:latin typeface="Palatino Linotype"/>
                <a:ea typeface="Times New Roman"/>
              </a:rPr>
              <a:t>четвертих класах </a:t>
            </a:r>
            <a:r>
              <a:rPr b="1" lang="ru-RU" sz="2200" spc="-1" strike="noStrike">
                <a:solidFill>
                  <a:srgbClr val="333399"/>
                </a:solidFill>
                <a:latin typeface="Palatino Linotype"/>
                <a:ea typeface="Times New Roman"/>
              </a:rPr>
              <a:t>здійснюється за рівневою шкалою, а його результати позначаються словами або відповідними літерами: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Palatino Linotype"/>
                <a:ea typeface="Times New Roman"/>
              </a:rPr>
              <a:t>«початковий (П)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Palatino Linotype"/>
                <a:ea typeface="Times New Roman"/>
              </a:rPr>
              <a:t>«середній» (С)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Palatino Linotype"/>
                <a:ea typeface="Times New Roman"/>
              </a:rPr>
              <a:t>«достатній» (Д)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Palatino Linotype"/>
                <a:ea typeface="Times New Roman"/>
              </a:rPr>
              <a:t>«високий (В)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TextBox 2" descr=""/>
          <p:cNvPicPr/>
          <p:nvPr/>
        </p:nvPicPr>
        <p:blipFill>
          <a:blip r:embed="rId1"/>
          <a:stretch/>
        </p:blipFill>
        <p:spPr>
          <a:xfrm>
            <a:off x="3492360" y="115920"/>
            <a:ext cx="4681800" cy="585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Прямоугольник 1"/>
          <p:cNvSpPr/>
          <p:nvPr/>
        </p:nvSpPr>
        <p:spPr>
          <a:xfrm>
            <a:off x="755640" y="3036960"/>
            <a:ext cx="7704000" cy="12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Palatino Linotype"/>
                <a:ea typeface="Times New Roman"/>
              </a:rPr>
              <a:t>Особливості оцінювання результатів навчання учнів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Palatino Linotype"/>
                <a:ea typeface="Times New Roman"/>
              </a:rPr>
              <a:t>з навчального предмета «Математи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Box 1"/>
          <p:cNvSpPr/>
          <p:nvPr/>
        </p:nvSpPr>
        <p:spPr>
          <a:xfrm>
            <a:off x="250920" y="1484280"/>
            <a:ext cx="8497800" cy="53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uk-UA" sz="2000" spc="-1" strike="noStrike">
                <a:solidFill>
                  <a:srgbClr val="02212c"/>
                </a:solidFill>
                <a:latin typeface="Palatino Linotype"/>
              </a:rPr>
              <a:t>Діагностичні роботи з математики проводяться наприкінці вивчення кожної теми.</a:t>
            </a:r>
            <a:r>
              <a:rPr b="1" lang="en-US" sz="2000" spc="-1" strike="noStrike">
                <a:solidFill>
                  <a:srgbClr val="02212c"/>
                </a:solidFill>
                <a:latin typeface="Palatino Linotype"/>
              </a:rPr>
              <a:t> </a:t>
            </a:r>
            <a:r>
              <a:rPr b="1" lang="uk-UA" sz="2000" spc="-1" strike="noStrike">
                <a:solidFill>
                  <a:srgbClr val="02212c"/>
                </a:solidFill>
                <a:latin typeface="Palatino Linotype"/>
              </a:rPr>
              <a:t>Перевагу варто надавати письмовій формі робіт (хоча можлива і усна форма перевірк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4374a"/>
                </a:solidFill>
                <a:latin typeface="Palatino Linotype"/>
              </a:rPr>
              <a:t>	</a:t>
            </a:r>
            <a:r>
              <a:rPr b="1" lang="uk-UA" sz="2000" spc="-1" strike="noStrike">
                <a:solidFill>
                  <a:srgbClr val="04374a"/>
                </a:solidFill>
                <a:latin typeface="Palatino Linotype"/>
              </a:rPr>
              <a:t>Зміст завдань розробляється з урахуванням компетентнісного</a:t>
            </a:r>
            <a:r>
              <a:rPr b="1" lang="en-US" sz="2000" spc="-1" strike="noStrike">
                <a:solidFill>
                  <a:srgbClr val="04374a"/>
                </a:solidFill>
                <a:latin typeface="Palatino Linotype"/>
              </a:rPr>
              <a:t> </a:t>
            </a:r>
            <a:r>
              <a:rPr b="1" lang="uk-UA" sz="2000" spc="-1" strike="noStrike">
                <a:solidFill>
                  <a:srgbClr val="04374a"/>
                </a:solidFill>
                <a:latin typeface="Palatino Linotype"/>
              </a:rPr>
              <a:t>підходу. Завдання спрямовані на перевірку  володіння учня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4374a"/>
                </a:solidFill>
                <a:latin typeface="Palatino Linotype"/>
              </a:rPr>
              <a:t>математичною грамотніст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4374a"/>
                </a:solidFill>
                <a:latin typeface="Palatino Linotype"/>
              </a:rPr>
              <a:t>уміння здійснювати системну математичну діяльні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4374a"/>
                </a:solidFill>
                <a:latin typeface="Palatino Linotype"/>
              </a:rPr>
              <a:t>уміння застосовувати математику у конкретних життєвих ситуаці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4374a"/>
                </a:solidFill>
                <a:latin typeface="Palatino Linotype"/>
              </a:rPr>
              <a:t>	</a:t>
            </a:r>
            <a:r>
              <a:rPr b="1" lang="uk-UA" sz="2000" spc="-1" strike="noStrike">
                <a:solidFill>
                  <a:srgbClr val="02212c"/>
                </a:solidFill>
                <a:latin typeface="Palatino Linotype"/>
              </a:rPr>
              <a:t>Завдання може мати вигляд кейса (практичної або текстової ситуації), комплексне розв</a:t>
            </a:r>
            <a:r>
              <a:rPr b="1" lang="en-US" sz="2000" spc="-1" strike="noStrike">
                <a:solidFill>
                  <a:srgbClr val="02212c"/>
                </a:solidFill>
                <a:latin typeface="Palatino Linotype"/>
              </a:rPr>
              <a:t>'</a:t>
            </a:r>
            <a:r>
              <a:rPr b="1" lang="uk-UA" sz="2000" spc="-1" strike="noStrike">
                <a:solidFill>
                  <a:srgbClr val="02212c"/>
                </a:solidFill>
                <a:latin typeface="Palatino Linotype"/>
              </a:rPr>
              <a:t>язання якого передбачатиме виконання конкретних математичних ді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4374a"/>
                </a:solidFill>
                <a:latin typeface="Palatino Linotype"/>
              </a:rPr>
              <a:t>	</a:t>
            </a:r>
            <a:r>
              <a:rPr b="1" lang="uk-UA" sz="2000" spc="-1" strike="noStrike">
                <a:solidFill>
                  <a:srgbClr val="04374a"/>
                </a:solidFill>
                <a:latin typeface="Palatino Linotype"/>
              </a:rPr>
              <a:t>Оцінювання відбувається за кожним з умінь, які перевіряються у діагностичній робот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Прямоугольник 2"/>
          <p:cNvSpPr/>
          <p:nvPr/>
        </p:nvSpPr>
        <p:spPr>
          <a:xfrm>
            <a:off x="179280" y="4680"/>
            <a:ext cx="8713800" cy="8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Palatino Linotype"/>
                <a:ea typeface="Times New Roman"/>
              </a:rPr>
              <a:t>Особливості оцінювання результатів навчання учнів з навчального предмета «Математи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Объект 3" descr=""/>
          <p:cNvPicPr/>
          <p:nvPr/>
        </p:nvPicPr>
        <p:blipFill>
          <a:blip r:embed="rId1"/>
          <a:stretch/>
        </p:blipFill>
        <p:spPr>
          <a:xfrm>
            <a:off x="1619280" y="50760"/>
            <a:ext cx="6765840" cy="6618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Рисунок 5" descr=""/>
          <p:cNvPicPr/>
          <p:nvPr/>
        </p:nvPicPr>
        <p:blipFill>
          <a:blip r:embed="rId1"/>
          <a:stretch/>
        </p:blipFill>
        <p:spPr>
          <a:xfrm>
            <a:off x="0" y="3240"/>
            <a:ext cx="1332000" cy="74916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843280" y="3240"/>
            <a:ext cx="61214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030a0"/>
                </a:solidFill>
                <a:latin typeface="Palatino Linotype"/>
              </a:rPr>
              <a:t>Нормативні документи</a:t>
            </a:r>
            <a:endParaRPr b="0" lang="en-US" sz="40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0" y="1125000"/>
            <a:ext cx="9144000" cy="555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2060"/>
                </a:solidFill>
                <a:latin typeface="Palatino Linotype"/>
              </a:rPr>
              <a:t>Державний стандарт початкової освіти (затверджено постановою КМ України 21. 02. 2018 р. N 87 (у ред. постанови КМ України від 24.07.2019  № 688)</a:t>
            </a:r>
            <a:endParaRPr b="0" lang="en-US" sz="1900" spc="-1" strike="noStrike">
              <a:solidFill>
                <a:srgbClr val="3a3a3a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Palatino Linotype"/>
              </a:rPr>
              <a:t>Про затвердження методичних рекомендацій щодо оцінювання навчальних досягнень учнів першого класу НУШ (від 10.08.18 № 924)</a:t>
            </a:r>
            <a:endParaRPr b="0" lang="en-US" sz="1900" spc="-1" strike="noStrike">
              <a:solidFill>
                <a:srgbClr val="3a3a3a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Palatino Linotype"/>
              </a:rPr>
              <a:t>Про затвердження методичних рекомендацій щодо оцінювання навчальних досягнень учнів другого класу НУШ (від 27.08.19 № 1154)</a:t>
            </a:r>
            <a:endParaRPr b="0" lang="en-US" sz="1900" spc="-1" strike="noStrike">
              <a:solidFill>
                <a:srgbClr val="3a3a3a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Palatino Linotype"/>
              </a:rPr>
              <a:t>Про затвердження методичних рекомендацій щодо заповнення Класного журналу учнів першого класу НУШ (від 07.12.18 №1362)</a:t>
            </a:r>
            <a:endParaRPr b="0" lang="en-US" sz="1900" spc="-1" strike="noStrike">
              <a:solidFill>
                <a:srgbClr val="3a3a3a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Palatino Linotype"/>
              </a:rPr>
              <a:t>Про  затвердження  типових  освітніх програм  для  1 -2 кл. закладів загальної середньої освіти (від 08.10.19 № 1272) </a:t>
            </a:r>
            <a:endParaRPr b="0" lang="en-US" sz="1900" spc="-1" strike="noStrike">
              <a:solidFill>
                <a:srgbClr val="3a3a3a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Palatino Linotype"/>
              </a:rPr>
              <a:t>Про  затвердження  типових  освітніх програм  для 3 -4  кл. закладів загальної середньої освіти (від 08.10.19 № 1273)</a:t>
            </a:r>
            <a:endParaRPr b="0" lang="en-US" sz="1900" spc="-1" strike="noStrike">
              <a:solidFill>
                <a:srgbClr val="3a3a3a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1616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161616"/>
                </a:solidFill>
                <a:latin typeface="Palatino Linotype"/>
              </a:rPr>
              <a:t>Про внесення змін до методичних рекомендацій щодо заповнення Класного журналу учнів початкових класів НУШ (від 02.09.20 № 1096)</a:t>
            </a:r>
            <a:endParaRPr b="0" lang="en-US" sz="1900" spc="-1" strike="noStrike">
              <a:solidFill>
                <a:srgbClr val="3a3a3a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1616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161616"/>
                </a:solidFill>
                <a:latin typeface="Palatino Linotype"/>
              </a:rPr>
              <a:t>Про затвердження методичних рекомендацій щодо оцінювання</a:t>
            </a:r>
            <a:br>
              <a:rPr sz="1900"/>
            </a:br>
            <a:r>
              <a:rPr b="1" lang="uk-UA" sz="1900" spc="-1" strike="noStrike">
                <a:solidFill>
                  <a:srgbClr val="161616"/>
                </a:solidFill>
                <a:latin typeface="Palatino Linotype"/>
              </a:rPr>
              <a:t>результатів навчання учнів третіх і четвертих класів НУШ </a:t>
            </a:r>
            <a:r>
              <a:rPr b="1" lang="ru-RU" sz="1900" spc="-1" strike="noStrike">
                <a:solidFill>
                  <a:srgbClr val="161616"/>
                </a:solidFill>
                <a:latin typeface="Palatino Linotype"/>
              </a:rPr>
              <a:t>(від 16.09.20 №1146)</a:t>
            </a:r>
            <a:endParaRPr b="0" lang="en-US" sz="1900" spc="-1" strike="noStrike">
              <a:solidFill>
                <a:srgbClr val="3a3a3a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Palatino Linotype"/>
              </a:rPr>
              <a:t>Щодо окремих питань оцінювання та фіксації результатів навчання учнів початкових класів НУШ (лист МОН України від 29.09.20 </a:t>
            </a:r>
            <a:endParaRPr b="0" lang="en-US" sz="1900" spc="-1" strike="noStrike">
              <a:solidFill>
                <a:srgbClr val="3a3a3a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Palatino Linotype"/>
              </a:rPr>
              <a:t>     № </a:t>
            </a:r>
            <a:r>
              <a:rPr b="1" lang="ru-RU" sz="1900" spc="-1" strike="noStrike">
                <a:solidFill>
                  <a:srgbClr val="002060"/>
                </a:solidFill>
                <a:latin typeface="Palatino Linotype"/>
              </a:rPr>
              <a:t>1/9-550)</a:t>
            </a:r>
            <a:endParaRPr b="0" lang="en-US" sz="1900" spc="-1" strike="noStrike">
              <a:solidFill>
                <a:srgbClr val="3a3a3a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3a3a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3a3a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3a3a"/>
              </a:solidFill>
              <a:latin typeface="Calibri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Объект 3" descr=""/>
          <p:cNvPicPr/>
          <p:nvPr/>
        </p:nvPicPr>
        <p:blipFill>
          <a:blip r:embed="rId1"/>
          <a:srcRect l="0" t="0" r="0" b="25729"/>
          <a:stretch/>
        </p:blipFill>
        <p:spPr>
          <a:xfrm>
            <a:off x="2050920" y="333360"/>
            <a:ext cx="6921720" cy="6191280"/>
          </a:xfrm>
          <a:prstGeom prst="rect">
            <a:avLst/>
          </a:prstGeom>
          <a:ln w="0">
            <a:noFill/>
          </a:ln>
        </p:spPr>
      </p:pic>
      <p:sp>
        <p:nvSpPr>
          <p:cNvPr id="566" name="TextBox 4"/>
          <p:cNvSpPr/>
          <p:nvPr/>
        </p:nvSpPr>
        <p:spPr>
          <a:xfrm rot="19731000">
            <a:off x="166320" y="2044800"/>
            <a:ext cx="172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7030a0"/>
                </a:solidFill>
                <a:latin typeface="Palatino Linotype"/>
              </a:rPr>
              <a:t>Фрагмен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Box 1"/>
          <p:cNvSpPr/>
          <p:nvPr/>
        </p:nvSpPr>
        <p:spPr>
          <a:xfrm rot="19772400">
            <a:off x="-71640" y="6174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62626"/>
                </a:solidFill>
                <a:latin typeface="Calibri"/>
              </a:rPr>
              <a:t>Зверніть уваг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2"/>
          <p:cNvSpPr/>
          <p:nvPr/>
        </p:nvSpPr>
        <p:spPr>
          <a:xfrm>
            <a:off x="468360" y="213372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595959"/>
                </a:solidFill>
                <a:uFillTx/>
                <a:latin typeface="Calibri"/>
              </a:rPr>
              <a:t>Загальні критерії оцінювання учнів початкової школи з мате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3"/>
          <p:cNvSpPr/>
          <p:nvPr/>
        </p:nvSpPr>
        <p:spPr>
          <a:xfrm rot="19773000">
            <a:off x="1485000" y="4716360"/>
            <a:ext cx="46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595959"/>
                </a:solidFill>
                <a:latin typeface="Calibri"/>
              </a:rPr>
              <a:t>Обов</a:t>
            </a:r>
            <a:r>
              <a:rPr b="1" lang="en-US" sz="2400" spc="-1" strike="noStrike">
                <a:solidFill>
                  <a:srgbClr val="595959"/>
                </a:solidFill>
                <a:latin typeface="Calibri"/>
              </a:rPr>
              <a:t>'</a:t>
            </a:r>
            <a:r>
              <a:rPr b="1" lang="uk-UA" sz="2400" spc="-1" strike="noStrike">
                <a:solidFill>
                  <a:srgbClr val="595959"/>
                </a:solidFill>
                <a:latin typeface="Calibri"/>
              </a:rPr>
              <a:t>язково опрацюй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4"/>
          <p:cNvSpPr/>
          <p:nvPr/>
        </p:nvSpPr>
        <p:spPr>
          <a:xfrm>
            <a:off x="755640" y="35766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a3a3a"/>
                </a:solidFill>
                <a:latin typeface="Calibri"/>
              </a:rPr>
              <a:t>С. 21- 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92144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f6f6f"/>
                </a:solidFill>
                <a:latin typeface="Calibri"/>
              </a:rPr>
              <a:t>Зворотний зв’язок</a:t>
            </a:r>
            <a:endParaRPr b="0" lang="en-US" sz="28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572" name="Прямоугольник 2"/>
          <p:cNvSpPr/>
          <p:nvPr/>
        </p:nvSpPr>
        <p:spPr>
          <a:xfrm>
            <a:off x="4309920" y="3213000"/>
            <a:ext cx="4824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1600" spc="-1" strike="noStrike">
                <a:solidFill>
                  <a:srgbClr val="7030a0"/>
                </a:solidFill>
                <a:latin typeface="Century Gothic"/>
              </a:rPr>
              <a:t>Гезей Ольга Михайлівна, </a:t>
            </a:r>
            <a:br>
              <a:rPr sz="1600"/>
            </a:br>
            <a:r>
              <a:rPr b="1" lang="uk-UA" sz="1600" spc="-1" strike="noStrike">
                <a:solidFill>
                  <a:srgbClr val="7030a0"/>
                </a:solidFill>
                <a:latin typeface="Century Gothic"/>
              </a:rPr>
              <a:t>ст. викладач кафедри методики дошкільної та початкової освіти КВНЗ «Харківська академія неперервної осві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Прямоугольник 4"/>
          <p:cNvSpPr/>
          <p:nvPr/>
        </p:nvSpPr>
        <p:spPr>
          <a:xfrm>
            <a:off x="108000" y="3284640"/>
            <a:ext cx="48243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entury Gothic"/>
              </a:rPr>
              <a:t>Контактний телефон: 720-91-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Century Gothic"/>
              </a:rPr>
              <a:t>E-mail: olgagezey@ukr.net</a:t>
            </a: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64072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Palatino Linotype"/>
              </a:rPr>
              <a:t>Про внесення змін до методичних рекомендацій щодо заповнення Класного журналу учнів початкових класів НУШ (від 02.09.20 № 1096)</a:t>
            </a:r>
            <a:endParaRPr b="0" lang="en-US" sz="2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08000" y="1557000"/>
            <a:ext cx="8928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Palatino Linotype"/>
                <a:ea typeface="Calibri"/>
              </a:rPr>
              <a:t>Типовий навчальний план для 1-4 класів початкової школи (витяг</a:t>
            </a:r>
            <a:r>
              <a:rPr b="0" lang="uk-UA" sz="2400" spc="-1" strike="noStrike">
                <a:solidFill>
                  <a:srgbClr val="002060"/>
                </a:solidFill>
                <a:latin typeface="Palatino Linotype"/>
                <a:ea typeface="Calibri"/>
              </a:rPr>
              <a:t>)</a:t>
            </a:r>
            <a:endParaRPr b="0" lang="en-US" sz="2400" spc="-1" strike="noStrike">
              <a:solidFill>
                <a:srgbClr val="3a3a3a"/>
              </a:solidFill>
              <a:latin typeface="Calibri"/>
            </a:endParaRPr>
          </a:p>
          <a:p>
            <a:pPr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3a3a"/>
              </a:solidFill>
              <a:latin typeface="Calibri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468360" y="3322800"/>
          <a:ext cx="7947000" cy="2108160"/>
        </p:xfrm>
        <a:graphic>
          <a:graphicData uri="http://schemas.openxmlformats.org/drawingml/2006/table">
            <a:tbl>
              <a:tblPr/>
              <a:tblGrid>
                <a:gridCol w="3792600"/>
                <a:gridCol w="815760"/>
                <a:gridCol w="816120"/>
                <a:gridCol w="846000"/>
                <a:gridCol w="847800"/>
                <a:gridCol w="828720"/>
              </a:tblGrid>
              <a:tr h="3510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Назва освітньої галуз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                                                     </a:t>
                      </a:r>
                      <a:r>
                        <a:rPr b="1" lang="uk-UA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Кла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Кількість год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Раз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51000"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Інваріантний склад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Математич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  <p:sp>
        <p:nvSpPr>
          <p:cNvPr id="516" name="Прямая соединительная линия 5"/>
          <p:cNvSpPr/>
          <p:nvPr/>
        </p:nvSpPr>
        <p:spPr>
          <a:xfrm flipH="1">
            <a:off x="468360" y="3357720"/>
            <a:ext cx="3743280" cy="71892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916000" y="115560"/>
            <a:ext cx="611964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a3a3a"/>
                </a:solidFill>
                <a:latin typeface="Calibri"/>
              </a:rPr>
              <a:t>Типові освітні програми</a:t>
            </a:r>
            <a:endParaRPr b="0" lang="en-US" sz="44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0" y="1165320"/>
            <a:ext cx="9036000" cy="550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512640">
              <a:lnSpc>
                <a:spcPct val="105000"/>
              </a:lnSpc>
              <a:spcBef>
                <a:spcPts val="1800"/>
              </a:spcBef>
              <a:buClr>
                <a:srgbClr val="3a3a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3a3a3a"/>
                </a:solidFill>
                <a:latin typeface="Palatino Linotype"/>
              </a:rPr>
              <a:t>Математична освітня галузь реалізується за типовою освітньою програмою, розробленою під керівництвом О. Савченко) окремим предметом «Математика»: у 1-2 класах – 4 год на тиждень, у 3-4 класах – 5 год на тиждень.</a:t>
            </a:r>
            <a:endParaRPr b="0" lang="en-US" sz="2700" spc="-1" strike="noStrike">
              <a:solidFill>
                <a:srgbClr val="3a3a3a"/>
              </a:solidFill>
              <a:latin typeface="Calibri"/>
            </a:endParaRPr>
          </a:p>
          <a:p>
            <a:pPr marL="325800" indent="512640">
              <a:lnSpc>
                <a:spcPct val="105000"/>
              </a:lnSpc>
              <a:spcBef>
                <a:spcPts val="1800"/>
              </a:spcBef>
              <a:buClr>
                <a:srgbClr val="3a3a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3a3a"/>
              </a:solidFill>
              <a:latin typeface="Calibri"/>
            </a:endParaRPr>
          </a:p>
          <a:p>
            <a:pPr marL="325800" indent="512640">
              <a:lnSpc>
                <a:spcPct val="105000"/>
              </a:lnSpc>
              <a:spcBef>
                <a:spcPts val="1800"/>
              </a:spcBef>
              <a:buClr>
                <a:srgbClr val="3a3a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3a3a3a"/>
                </a:solidFill>
                <a:latin typeface="Palatino Linotype"/>
              </a:rPr>
              <a:t>За типовою програмою, розробленою під керівництвом      Р. Шияна, математична освітня галузь вивчається через окремий предмет «Математика» (у 1-2 класах – 3 год на тиждень, у 3-4 класах – 4 год на тиждень) та інтегрується в курс «Я досліджую світ» – 1 год на тиждень.</a:t>
            </a:r>
            <a:endParaRPr b="0" lang="en-US" sz="2700" spc="-1" strike="noStrike">
              <a:solidFill>
                <a:srgbClr val="3a3a3a"/>
              </a:solidFill>
              <a:latin typeface="Calibri"/>
            </a:endParaRPr>
          </a:p>
          <a:p>
            <a:pPr marL="325800" indent="512640">
              <a:lnSpc>
                <a:spcPct val="90000"/>
              </a:lnSpc>
              <a:spcBef>
                <a:spcPts val="675"/>
              </a:spcBef>
              <a:buClr>
                <a:srgbClr val="3a3a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a3a3a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7120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Palatino Linotype"/>
              </a:rPr>
              <a:t>Про внесення змін до методичних рекомендацій щодо заповнення Класного журналу учнів початкових класів НУШ 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Palatino Linotype"/>
              </a:rPr>
              <a:t>(від 02.09.20 № 1096)</a:t>
            </a:r>
            <a:endParaRPr b="0" lang="en-US" sz="28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08000" y="1915920"/>
            <a:ext cx="8928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9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3a3a3a"/>
                </a:solidFill>
                <a:latin typeface="Palatino Linotype"/>
              </a:rPr>
              <a:t>	</a:t>
            </a:r>
            <a:r>
              <a:rPr b="0" lang="uk-UA" sz="3000" spc="-1" strike="noStrike">
                <a:solidFill>
                  <a:srgbClr val="002060"/>
                </a:solidFill>
                <a:latin typeface="Palatino Linotype"/>
              </a:rPr>
              <a:t>Результати підсумкового оцінювання з математичної освітньої галузі фіксуються на сторінці «Математика» або на окремих сторінках зведеного обліку результатів навчання.</a:t>
            </a:r>
            <a:endParaRPr b="0" lang="en-US" sz="3000" spc="-1" strike="noStrike">
              <a:solidFill>
                <a:srgbClr val="3a3a3a"/>
              </a:solidFill>
              <a:latin typeface="Calibri"/>
            </a:endParaRPr>
          </a:p>
          <a:p>
            <a:pPr marL="343080">
              <a:lnSpc>
                <a:spcPct val="9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2060"/>
                </a:solidFill>
                <a:latin typeface="Palatino Linotype"/>
              </a:rPr>
              <a:t>	</a:t>
            </a:r>
            <a:r>
              <a:rPr b="1" lang="uk-UA" sz="3000" spc="-1" strike="noStrike">
                <a:solidFill>
                  <a:srgbClr val="002060"/>
                </a:solidFill>
                <a:latin typeface="Palatino Linotype"/>
              </a:rPr>
              <a:t>Рекомендуємо. </a:t>
            </a:r>
            <a:r>
              <a:rPr b="0" lang="uk-UA" sz="3000" spc="-1" strike="noStrike">
                <a:solidFill>
                  <a:srgbClr val="002060"/>
                </a:solidFill>
                <a:latin typeface="Palatino Linotype"/>
              </a:rPr>
              <a:t>Рішенням педагогічної ради ухвалити один з варіантів фіксації результатів підсумкового оцінювання з математики. </a:t>
            </a:r>
            <a:endParaRPr b="0" lang="en-US" sz="3000" spc="-1" strike="noStrike">
              <a:solidFill>
                <a:srgbClr val="3a3a3a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856720" cy="104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Palatino Linotype"/>
              </a:rPr>
              <a:t>Про внесення змін до методичних рекомендацій щодо заповнення Класного журналу учнів початкових класів НУШ (від 02.09.20 № 1096)</a:t>
            </a:r>
            <a:endParaRPr b="0" lang="en-US" sz="2800" spc="-1" strike="noStrike">
              <a:solidFill>
                <a:srgbClr val="3a3a3a"/>
              </a:solidFill>
              <a:latin typeface="Calibri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179280" y="1915920"/>
            <a:ext cx="8856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700" spc="-1" strike="noStrike">
                <a:solidFill>
                  <a:srgbClr val="002060"/>
                </a:solidFill>
                <a:latin typeface="Palatino Linotype"/>
              </a:rPr>
              <a:t>Звертаємо увагу!</a:t>
            </a:r>
            <a:r>
              <a:rPr b="1" lang="uk-UA" sz="2700" spc="-1" strike="noStrike">
                <a:solidFill>
                  <a:srgbClr val="002060"/>
                </a:solidFill>
                <a:latin typeface="Palatino Linotype"/>
              </a:rPr>
              <a:t> </a:t>
            </a:r>
            <a:endParaRPr b="0" lang="en-US" sz="2700" spc="-1" strike="noStrike">
              <a:solidFill>
                <a:srgbClr val="3a3a3a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2060"/>
                </a:solidFill>
                <a:latin typeface="Palatino Linotype"/>
              </a:rPr>
              <a:t>Результати проведення діагностичних робіт у класному журналі не фіксуються. </a:t>
            </a:r>
            <a:endParaRPr b="0" lang="en-US" sz="2700" spc="-1" strike="noStrike">
              <a:solidFill>
                <a:srgbClr val="3a3a3a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2060"/>
                </a:solidFill>
                <a:latin typeface="Palatino Linotype"/>
              </a:rPr>
              <a:t>Середня оцінка за тематичне, семестрове та річне оцінювання не виводиться. </a:t>
            </a:r>
            <a:endParaRPr b="0" lang="en-US" sz="2700" spc="-1" strike="noStrike">
              <a:solidFill>
                <a:srgbClr val="3a3a3a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2060"/>
                </a:solidFill>
                <a:latin typeface="Palatino Linotype"/>
              </a:rPr>
              <a:t>До журналу записуються лише результати підсумкового оцінювання: </a:t>
            </a:r>
            <a:r>
              <a:rPr b="1" lang="uk-UA" sz="2700" spc="-1" strike="noStrike">
                <a:solidFill>
                  <a:srgbClr val="002060"/>
                </a:solidFill>
                <a:latin typeface="Palatino Linotype"/>
              </a:rPr>
              <a:t>за І семестр </a:t>
            </a:r>
            <a:r>
              <a:rPr b="0" lang="uk-UA" sz="2700" spc="-1" strike="noStrike">
                <a:solidFill>
                  <a:srgbClr val="002060"/>
                </a:solidFill>
                <a:latin typeface="Palatino Linotype"/>
              </a:rPr>
              <a:t>(І і ІІ триместр) та </a:t>
            </a:r>
            <a:r>
              <a:rPr b="1" lang="uk-UA" sz="2700" spc="-1" strike="noStrike">
                <a:solidFill>
                  <a:srgbClr val="002060"/>
                </a:solidFill>
                <a:latin typeface="Palatino Linotype"/>
              </a:rPr>
              <a:t>рік</a:t>
            </a:r>
            <a:r>
              <a:rPr b="0" lang="uk-UA" sz="2700" spc="-1" strike="noStrike">
                <a:solidFill>
                  <a:srgbClr val="002060"/>
                </a:solidFill>
                <a:latin typeface="Palatino Linotype"/>
              </a:rPr>
              <a:t> (здійснюється на підставі результатів оцінювання результатів оцінювання за ІІ семестр або ІІІ триместр). </a:t>
            </a:r>
            <a:endParaRPr b="0" lang="en-US" sz="2700" spc="-1" strike="noStrike">
              <a:solidFill>
                <a:srgbClr val="3a3a3a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2060"/>
                </a:solidFill>
                <a:latin typeface="Palatino Linotype"/>
              </a:rPr>
              <a:t>У журналі фіксується: </a:t>
            </a:r>
            <a:r>
              <a:rPr b="1" lang="uk-UA" sz="2700" spc="-1" strike="noStrike">
                <a:solidFill>
                  <a:srgbClr val="002060"/>
                </a:solidFill>
                <a:latin typeface="Palatino Linotype"/>
              </a:rPr>
              <a:t>І семестр</a:t>
            </a:r>
            <a:r>
              <a:rPr b="0" lang="uk-UA" sz="2700" spc="-1" strike="noStrike">
                <a:solidFill>
                  <a:srgbClr val="002060"/>
                </a:solidFill>
                <a:latin typeface="Palatino Linotype"/>
              </a:rPr>
              <a:t> (І триместр, ІІ триместр), </a:t>
            </a:r>
            <a:r>
              <a:rPr b="1" lang="uk-UA" sz="2700" spc="-1" strike="noStrike">
                <a:solidFill>
                  <a:srgbClr val="002060"/>
                </a:solidFill>
                <a:latin typeface="Palatino Linotype"/>
              </a:rPr>
              <a:t>ІІ семестр (рік) </a:t>
            </a:r>
            <a:r>
              <a:rPr b="0" lang="uk-UA" sz="2700" spc="-1" strike="noStrike">
                <a:solidFill>
                  <a:srgbClr val="002060"/>
                </a:solidFill>
                <a:latin typeface="Palatino Linotype"/>
              </a:rPr>
              <a:t>або ІІІ триместр (рік).</a:t>
            </a:r>
            <a:endParaRPr b="0" lang="en-US" sz="2700" spc="-1" strike="noStrike">
              <a:solidFill>
                <a:srgbClr val="3a3a3a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a3a3a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22560" y="333000"/>
            <a:ext cx="6121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030a0"/>
                </a:solidFill>
                <a:latin typeface="Calibri"/>
              </a:rPr>
              <a:t>Характеристика результатів навчання з математики</a:t>
            </a:r>
            <a:br>
              <a:rPr sz="4000"/>
            </a:br>
            <a:endParaRPr b="0" lang="en-US" sz="3200" spc="-1" strike="noStrike">
              <a:solidFill>
                <a:srgbClr val="3a3a3a"/>
              </a:solidFill>
              <a:latin typeface="Calibri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0" y="1413000"/>
          <a:ext cx="8893080" cy="5100480"/>
        </p:xfrm>
        <a:graphic>
          <a:graphicData uri="http://schemas.openxmlformats.org/drawingml/2006/table">
            <a:tbl>
              <a:tblPr/>
              <a:tblGrid>
                <a:gridCol w="1403280"/>
                <a:gridCol w="7489800"/>
              </a:tblGrid>
              <a:tr h="27972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2060"/>
                          </a:solidFill>
                          <a:latin typeface="Palatino Linotype"/>
                          <a:ea typeface="Calibri"/>
                        </a:rPr>
                        <a:t>Характеристика рівнів навч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72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2060"/>
                          </a:solidFill>
                          <a:latin typeface="Palatino Linotype"/>
                          <a:ea typeface="Calibri"/>
                        </a:rPr>
                        <a:t>Матема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2060"/>
                          </a:solidFill>
                          <a:latin typeface="Palatino Linotype"/>
                          <a:ea typeface="Calibri"/>
                        </a:rPr>
                        <a:t>МАО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2060"/>
                          </a:solidFill>
                          <a:latin typeface="Palatino Linotype"/>
                          <a:ea typeface="Calibri"/>
                        </a:rPr>
                        <a:t>Застосовує математику для розв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Palatino Linotype"/>
                          <a:ea typeface="Calibri"/>
                        </a:rPr>
                        <a:t>’</a:t>
                      </a:r>
                      <a:r>
                        <a:rPr b="1" lang="uk-UA" sz="2000" spc="-1" strike="noStrike">
                          <a:solidFill>
                            <a:srgbClr val="002060"/>
                          </a:solidFill>
                          <a:latin typeface="Palatino Linotype"/>
                          <a:ea typeface="Calibri"/>
                        </a:rPr>
                        <a:t>язання життєвих ситуаці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2060"/>
                          </a:solidFill>
                          <a:latin typeface="Palatino Linotype"/>
                          <a:ea typeface="Calibri"/>
                        </a:rPr>
                        <a:t>МАО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2060"/>
                          </a:solidFill>
                          <a:latin typeface="Palatino Linotype"/>
                          <a:ea typeface="Calibri"/>
                        </a:rPr>
                        <a:t>Розв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Palatino Linotype"/>
                          <a:ea typeface="Calibri"/>
                        </a:rPr>
                        <a:t>’</a:t>
                      </a:r>
                      <a:r>
                        <a:rPr b="1" lang="uk-UA" sz="2000" spc="-1" strike="noStrike">
                          <a:solidFill>
                            <a:srgbClr val="002060"/>
                          </a:solidFill>
                          <a:latin typeface="Palatino Linotype"/>
                          <a:ea typeface="Calibri"/>
                        </a:rPr>
                        <a:t>язує задачі з використанням різних стратегі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2060"/>
                          </a:solidFill>
                          <a:latin typeface="Palatino Linotype"/>
                          <a:ea typeface="Calibri"/>
                        </a:rPr>
                        <a:t>МАО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2060"/>
                          </a:solidFill>
                          <a:latin typeface="Palatino Linotype"/>
                          <a:ea typeface="Calibri"/>
                        </a:rPr>
                        <a:t>Аналізує дані, процес та результат розв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Palatino Linotype"/>
                          <a:ea typeface="Calibri"/>
                        </a:rPr>
                        <a:t>’</a:t>
                      </a:r>
                      <a:r>
                        <a:rPr b="1" lang="uk-UA" sz="2000" spc="-1" strike="noStrike">
                          <a:solidFill>
                            <a:srgbClr val="002060"/>
                          </a:solidFill>
                          <a:latin typeface="Palatino Linotype"/>
                          <a:ea typeface="Calibri"/>
                        </a:rPr>
                        <a:t>язання навчальних і практичних задач, критично їх оціню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2060"/>
                          </a:solidFill>
                          <a:latin typeface="Palatino Linotype"/>
                          <a:ea typeface="Calibri"/>
                        </a:rPr>
                        <a:t>МАО 4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2060"/>
                          </a:solidFill>
                          <a:latin typeface="Palatino Linotype"/>
                          <a:ea typeface="Calibri"/>
                        </a:rPr>
                        <a:t>Класифікує, порівнює, узагальнює об</a:t>
                      </a: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Palatino Linotype"/>
                          <a:ea typeface="Calibri"/>
                        </a:rPr>
                        <a:t>’</a:t>
                      </a:r>
                      <a:r>
                        <a:rPr b="1" lang="uk-UA" sz="2000" spc="-1" strike="noStrike">
                          <a:solidFill>
                            <a:srgbClr val="002060"/>
                          </a:solidFill>
                          <a:latin typeface="Palatino Linotype"/>
                          <a:ea typeface="Calibri"/>
                        </a:rPr>
                        <a:t>єк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2060"/>
                          </a:solidFill>
                          <a:latin typeface="Palatino Linotype"/>
                          <a:ea typeface="Calibri"/>
                        </a:rPr>
                        <a:t>МАО 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2060"/>
                          </a:solidFill>
                          <a:latin typeface="Palatino Linotype"/>
                          <a:ea typeface="Calibri"/>
                        </a:rPr>
                        <a:t>Встановлює кількість об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Palatino Linotype"/>
                          <a:ea typeface="Calibri"/>
                        </a:rPr>
                        <a:t>’</a:t>
                      </a:r>
                      <a:r>
                        <a:rPr b="1" lang="uk-UA" sz="2000" spc="-1" strike="noStrike">
                          <a:solidFill>
                            <a:srgbClr val="002060"/>
                          </a:solidFill>
                          <a:latin typeface="Palatino Linotype"/>
                          <a:ea typeface="Calibri"/>
                        </a:rPr>
                        <a:t>єктів, позначає результат лічби числом, порівнює чис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2060"/>
                          </a:solidFill>
                          <a:latin typeface="Palatino Linotype"/>
                          <a:ea typeface="Calibri"/>
                        </a:rPr>
                        <a:t>МАО 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2060"/>
                          </a:solidFill>
                          <a:latin typeface="Palatino Linotype"/>
                          <a:ea typeface="Calibri"/>
                        </a:rPr>
                        <a:t>Здійснює обчислення усно та письмо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2060"/>
                          </a:solidFill>
                          <a:latin typeface="Palatino Linotype"/>
                          <a:ea typeface="Calibri"/>
                        </a:rPr>
                        <a:t>МАО 4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2060"/>
                          </a:solidFill>
                          <a:latin typeface="Palatino Linotype"/>
                          <a:ea typeface="Calibri"/>
                        </a:rPr>
                        <a:t>Орієнтується на площині і в простор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2060"/>
                          </a:solidFill>
                          <a:latin typeface="Palatino Linotype"/>
                          <a:ea typeface="Calibri"/>
                        </a:rPr>
                        <a:t>МАО 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2060"/>
                          </a:solidFill>
                          <a:latin typeface="Palatino Linotype"/>
                          <a:ea typeface="Calibri"/>
                        </a:rPr>
                        <a:t>Розпізнає геометричні фігу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2060"/>
                          </a:solidFill>
                          <a:latin typeface="Palatino Linotype"/>
                          <a:ea typeface="Calibri"/>
                        </a:rPr>
                        <a:t>МАО 4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2060"/>
                          </a:solidFill>
                          <a:latin typeface="Palatino Linotype"/>
                          <a:ea typeface="Calibri"/>
                        </a:rPr>
                        <a:t>Будує геометричні фігури, конструю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2060"/>
                          </a:solidFill>
                          <a:latin typeface="Palatino Linotype"/>
                          <a:ea typeface="Calibri"/>
                        </a:rPr>
                        <a:t>МАО 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2060"/>
                          </a:solidFill>
                          <a:latin typeface="Palatino Linotype"/>
                          <a:ea typeface="Calibri"/>
                        </a:rPr>
                        <a:t>Вимірює величи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2060"/>
                          </a:solidFill>
                          <a:latin typeface="Palatino Linotype"/>
                          <a:ea typeface="Calibri"/>
                        </a:rPr>
                        <a:t>МАО 4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2060"/>
                          </a:solidFill>
                          <a:latin typeface="Palatino Linotype"/>
                          <a:ea typeface="Calibri"/>
                        </a:rPr>
                        <a:t>Працює з таблицями, схемами, графіками, діаграм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Прямоугольник 2"/>
          <p:cNvSpPr/>
          <p:nvPr/>
        </p:nvSpPr>
        <p:spPr>
          <a:xfrm>
            <a:off x="324000" y="674640"/>
            <a:ext cx="83516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ІІ. Облік навчальних досягнень учнів. Інваріантна склад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Матема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216000" y="2060640"/>
          <a:ext cx="8569080" cy="4049640"/>
        </p:xfrm>
        <a:graphic>
          <a:graphicData uri="http://schemas.openxmlformats.org/drawingml/2006/table">
            <a:tbl>
              <a:tblPr/>
              <a:tblGrid>
                <a:gridCol w="439560"/>
                <a:gridCol w="2486160"/>
                <a:gridCol w="323640"/>
                <a:gridCol w="322560"/>
                <a:gridCol w="323640"/>
                <a:gridCol w="322200"/>
                <a:gridCol w="322560"/>
                <a:gridCol w="322200"/>
                <a:gridCol w="322200"/>
                <a:gridCol w="322200"/>
                <a:gridCol w="324000"/>
                <a:gridCol w="320400"/>
                <a:gridCol w="322560"/>
                <a:gridCol w="322200"/>
                <a:gridCol w="434880"/>
                <a:gridCol w="433440"/>
                <a:gridCol w="452520"/>
                <a:gridCol w="452160"/>
              </a:tblGrid>
              <a:tr h="497880">
                <a:tc rowSpan="2"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ts val="11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ts val="11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і місяць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99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ізвище та                            ім’я учня (учениц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16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8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12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12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1280"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12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12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12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12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12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12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12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12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12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12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12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12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12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12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12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12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12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12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12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12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12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12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12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12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12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12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12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12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>
                  <a:txBody>
                    <a:bodyPr lIns="0" rIns="0" tIns="0" bIns="0" anchor="ctr">
                      <a:noAutofit/>
                    </a:bodyPr>
                    <a:p>
                      <a:pPr marL="127080">
                        <a:lnSpc>
                          <a:spcPts val="11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ікіна Вікторі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>
                  <a:txBody>
                    <a:bodyPr lIns="0" rIns="0" tIns="0" bIns="0" anchor="ctr">
                      <a:noAutofit/>
                    </a:bodyPr>
                    <a:p>
                      <a:pPr marL="127080">
                        <a:lnSpc>
                          <a:spcPts val="11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ахін Дмитр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>
                  <a:txBody>
                    <a:bodyPr lIns="0" rIns="0" tIns="0" bIns="0" anchor="ctr">
                      <a:noAutofit/>
                    </a:bodyPr>
                    <a:p>
                      <a:pPr marL="127080">
                        <a:lnSpc>
                          <a:spcPts val="11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аранова Альбі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>
                  <a:txBody>
                    <a:bodyPr lIns="0" rIns="0" tIns="0" bIns="0" anchor="ctr">
                      <a:noAutofit/>
                    </a:bodyPr>
                    <a:p>
                      <a:pPr marL="127080">
                        <a:lnSpc>
                          <a:spcPts val="11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ойко Петр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>
                  <a:txBody>
                    <a:bodyPr lIns="0" rIns="0" tIns="0" bIns="0" anchor="ctr">
                      <a:noAutofit/>
                    </a:bodyPr>
                    <a:p>
                      <a:pPr marL="127080">
                        <a:lnSpc>
                          <a:spcPts val="11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ловик Ів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>
                  <a:txBody>
                    <a:bodyPr lIns="0" rIns="0" tIns="0" bIns="0" anchor="ctr">
                      <a:noAutofit/>
                    </a:bodyPr>
                    <a:p>
                      <a:pPr marL="127080">
                        <a:lnSpc>
                          <a:spcPts val="11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ищенко Софі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>
                  <a:txBody>
                    <a:bodyPr lIns="0" rIns="0" tIns="0" bIns="0" anchor="ctr">
                      <a:noAutofit/>
                    </a:bodyPr>
                    <a:p>
                      <a:pPr marL="127080">
                        <a:lnSpc>
                          <a:spcPts val="11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видова Ган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27" name="Прямая соединительная линия 5"/>
          <p:cNvSpPr/>
          <p:nvPr/>
        </p:nvSpPr>
        <p:spPr>
          <a:xfrm flipH="1">
            <a:off x="3171960" y="2852640"/>
            <a:ext cx="2476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Прямая соединительная линия 7"/>
          <p:cNvSpPr/>
          <p:nvPr/>
        </p:nvSpPr>
        <p:spPr>
          <a:xfrm flipH="1">
            <a:off x="3460680" y="2816280"/>
            <a:ext cx="28728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Прямая соединительная линия 9"/>
          <p:cNvSpPr/>
          <p:nvPr/>
        </p:nvSpPr>
        <p:spPr>
          <a:xfrm flipH="1">
            <a:off x="3780000" y="2852640"/>
            <a:ext cx="28728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Прямая соединительная линия 11"/>
          <p:cNvSpPr/>
          <p:nvPr/>
        </p:nvSpPr>
        <p:spPr>
          <a:xfrm flipH="1">
            <a:off x="4103640" y="2852640"/>
            <a:ext cx="3240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Прямая соединительная линия 13"/>
          <p:cNvSpPr/>
          <p:nvPr/>
        </p:nvSpPr>
        <p:spPr>
          <a:xfrm flipH="1">
            <a:off x="4427640" y="2852640"/>
            <a:ext cx="28872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Прямая соединительная линия 15"/>
          <p:cNvSpPr/>
          <p:nvPr/>
        </p:nvSpPr>
        <p:spPr>
          <a:xfrm flipH="1">
            <a:off x="4716000" y="2852640"/>
            <a:ext cx="36036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Прямая соединительная линия 21"/>
          <p:cNvSpPr/>
          <p:nvPr/>
        </p:nvSpPr>
        <p:spPr>
          <a:xfrm flipH="1">
            <a:off x="8317080" y="2852640"/>
            <a:ext cx="3585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Прямоугольник 2"/>
          <p:cNvSpPr/>
          <p:nvPr/>
        </p:nvSpPr>
        <p:spPr>
          <a:xfrm>
            <a:off x="622080" y="260280"/>
            <a:ext cx="428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Вчитель__</a:t>
            </a:r>
            <a:r>
              <a:rPr b="1" lang="uk-UA" sz="2000" spc="-1" strike="noStrike">
                <a:solidFill>
                  <a:srgbClr val="002060"/>
                </a:solidFill>
                <a:latin typeface="Times New Roman"/>
              </a:rPr>
              <a:t>Іванова Марія Петрі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179280" y="689040"/>
          <a:ext cx="8785440" cy="6148440"/>
        </p:xfrm>
        <a:graphic>
          <a:graphicData uri="http://schemas.openxmlformats.org/drawingml/2006/table">
            <a:tbl>
              <a:tblPr/>
              <a:tblGrid>
                <a:gridCol w="611280"/>
                <a:gridCol w="973080"/>
                <a:gridCol w="4284720"/>
                <a:gridCol w="2916360"/>
              </a:tblGrid>
              <a:tr h="521640">
                <a:tc>
                  <a:txBody>
                    <a:bodyPr lIns="0" rIns="0" tIns="0" bIns="0" anchor="ctr">
                      <a:noAutofit/>
                    </a:bodyPr>
                    <a:p>
                      <a:pPr marL="152280">
                        <a:lnSpc>
                          <a:spcPts val="11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52280">
                        <a:lnSpc>
                          <a:spcPts val="11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01520">
                        <a:lnSpc>
                          <a:spcPts val="11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МІС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дання додо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8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12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торюємо нумерацію чисел у межах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8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даємо і віднімаємо числа частин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. 7, завд. 4. Обчислити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. 7, завд. 6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 Виконати усн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8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ладаємо і розв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'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зуємо обернені задачі до дано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. 8, завд. 2.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конати усно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8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зв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'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зуємо складені задач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8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сліджуємо задач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8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даємо і віднімаємо числа порозряд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8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іагностична робота. Повторення вивченого у 2-му      класі. Додавання і віднімання у межах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36" name="Прямая соединительная линия 5"/>
          <p:cNvSpPr/>
          <p:nvPr/>
        </p:nvSpPr>
        <p:spPr>
          <a:xfrm flipH="1">
            <a:off x="839520" y="1989000"/>
            <a:ext cx="86508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Прямая соединительная линия 7"/>
          <p:cNvSpPr/>
          <p:nvPr/>
        </p:nvSpPr>
        <p:spPr>
          <a:xfrm flipH="1">
            <a:off x="826920" y="2728800"/>
            <a:ext cx="93672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Прямая соединительная линия 9"/>
          <p:cNvSpPr/>
          <p:nvPr/>
        </p:nvSpPr>
        <p:spPr>
          <a:xfrm flipH="1">
            <a:off x="826920" y="3579840"/>
            <a:ext cx="8654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Прямая соединительная линия 13"/>
          <p:cNvSpPr/>
          <p:nvPr/>
        </p:nvSpPr>
        <p:spPr>
          <a:xfrm flipH="1">
            <a:off x="826920" y="4281480"/>
            <a:ext cx="8654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Прямая соединительная линия 15"/>
          <p:cNvSpPr/>
          <p:nvPr/>
        </p:nvSpPr>
        <p:spPr>
          <a:xfrm flipH="1">
            <a:off x="839520" y="6100920"/>
            <a:ext cx="887400" cy="56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Прямая соединительная линия 17"/>
          <p:cNvSpPr/>
          <p:nvPr/>
        </p:nvSpPr>
        <p:spPr>
          <a:xfrm flipH="1">
            <a:off x="804600" y="5035680"/>
            <a:ext cx="887400" cy="67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Прямая соединительная линия 27"/>
          <p:cNvSpPr/>
          <p:nvPr/>
        </p:nvSpPr>
        <p:spPr>
          <a:xfrm flipH="1">
            <a:off x="826560" y="1303200"/>
            <a:ext cx="878040" cy="6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5T09:09:03Z</dcterms:created>
  <dc:creator>obstinate</dc:creator>
  <dc:description>Шаблон презентации с сайта https://presentation-creation.ru/</dc:description>
  <dc:language>en-US</dc:language>
  <cp:lastModifiedBy>Пользователь Windows</cp:lastModifiedBy>
  <dcterms:modified xsi:type="dcterms:W3CDTF">2020-10-12T12:53:51Z</dcterms:modified>
  <cp:revision>953</cp:revision>
  <dc:subject/>
  <dc:title>Белая 3d бумага</dc:title>
</cp:coreProperties>
</file>