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932-A6E2-4D78-A70F-74528F76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039-8F8C-407F-9340-C464B7E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D15-3DC7-4869-A84E-FE5EDD8D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1B0-C6C5-4E4B-BB85-1307851F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A99-219E-4853-B396-A32CF0E9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862-BAFC-4707-94BA-BDF431A3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01A-3054-40C0-B339-73BB68D0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5D1-053A-43B7-8E48-146B1895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65D-967D-4E63-94F0-9A658440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B63-523B-4597-8C4B-724F160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381-FD37-4D23-A41A-42C1370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3F5-97E9-46A3-9B02-05BCA8A5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C57-97BB-4982-BB07-D19C281BE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uobserver.com/opinion/139294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588680"/>
            <a:ext cx="8964720" cy="23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РЕГІОНАЛЬНИЙ ОСВІТНІЙ ПРОЕКТ</a:t>
            </a:r>
            <a:br>
              <a:rPr sz="3200"/>
            </a:b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«ПІДТРИМКА ДІЯЛЬНОСТІ ЗАКЛАДІВ ЗАГАЛЬНОЇ СЕРЕДНЬОЇ ОСВІТИ ХАРКІВСЬКОЇ ОБЛАСТІ З ВИКЛАДАННЯМ МОВАМИ НАЦІОНАЛЬНИХ МЕНШИН У ГАЛУЗІ БАГАТОМОВНОЇ ОСВІТИ»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ист КВНЗ “Харківська академія </a:t>
            </a:r>
            <a:br>
              <a:rPr sz="2400"/>
            </a:b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ерервної освіти”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янцева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хтіна Оксана Олександрівна</a:t>
            </a:r>
            <a:br>
              <a:rPr sz="2400"/>
            </a:br>
            <a:br>
              <a:rPr sz="33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95280" y="3357720"/>
            <a:ext cx="8569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66"/>
                </a:solidFill>
                <a:latin typeface="Times New Roman"/>
              </a:rPr>
              <a:t>Модель мовного занурення в умовах білінгвальної осві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Мовне занурення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є одним із найбільш ефективних способів багатомовного навчан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У випадку програми мовного занурення мінімум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50 % навчання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ведеться цільовою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(українською)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мовою: учень засвоює  її в процесі різних видів діяльн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968d38e-mova1"/>
          <p:cNvPicPr/>
          <p:nvPr/>
        </p:nvPicPr>
        <p:blipFill>
          <a:blip r:embed="rId1"/>
          <a:stretch/>
        </p:blipFill>
        <p:spPr>
          <a:xfrm>
            <a:off x="4632480" y="3933720"/>
            <a:ext cx="4511520" cy="278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Мета проект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створення </a:t>
            </a: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оптимальних  умов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 для зміцнення та </a:t>
            </a: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утвердження державної мови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 у системі багатомовної освіти шляхом глибокого мовного занур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удосконалення   </a:t>
            </a: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знання української мови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 за допомогою різних шкільних дисциплін та інших векторів освітнього проц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910320" y="32457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Мета проект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мога учням знайти зв’язок між різними начальними дисциплінами й створити цілісну картину тем, що вивчаються в умовах білінгвальної осві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ідтримка співпраці вчителів, які викладають у закладах загальної середньої освіти з мовами національних менш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Завдання</a:t>
            </a: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забезпечити реалізацію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дорожньої карти щодо імплементації статті 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7 Закону України «Про освіту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створити цілісну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систему мовного занурення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, залучаючи велику кількість шкільних дисциплін у закладах ЗЗСО з викладанням мовами національних меншин шляхом об’єднання зусиль органів управління у сфері осві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підвищити якість навчання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шляхом мовного занурення, спираючись на 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найкращі педагогічні практики іноземних колег та передовий міжнародний досві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66"/>
                </a:solidFill>
                <a:latin typeface="Times New Roman"/>
              </a:rPr>
              <a:t>Завдання проект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єчасно аналізувати </a:t>
            </a: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н мовних і мовленнєвих компетенцій здобувачів освіти; виявляти </a:t>
            </a: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івень сформованості ключових компетентностей </a:t>
            </a: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нів в умовах міжпредметної інтеграції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авати </a:t>
            </a: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у методичну допомогу вчителям </a:t>
            </a: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щодо здійснення мовного занурення на основі принципів інтегрованого навчання мови й інших шкільних дисциплін з урахуванням національно-патріотичного вихов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щорічно </a:t>
            </a: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ійснювати моніторинг та аналіз результатів впровадження мовного занурення в освітній процес </a:t>
            </a: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закладах загальної середньої освіти Харківської області з викладанням мовами національних мен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Очікувані результа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1. Організація </a:t>
            </a:r>
            <a:r>
              <a:rPr b="1" lang="uk-UA" sz="2400" spc="-1" strike="noStrike">
                <a:solidFill>
                  <a:srgbClr val="000066"/>
                </a:solidFill>
                <a:latin typeface="Times New Roman"/>
              </a:rPr>
              <a:t>системи мовного занурення</a:t>
            </a: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 в закладах загальної середньої освіти з викладанням мовами національних меншин з урахуванням стану сформованості мовних і мовленнєвих компетенцій кожного учня (учениці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2. Створення в закладах загальної середньої освіти Харківської області з викладанням мовами національних меншин сучасного освітнього середовищ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3. Забезпечення розвитку активного мислення й соціальних навичок у здобувачів освіти, розуміння ними культурних цінностей як українського, так і інших народ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Times New Roman"/>
              </a:rPr>
              <a:t>4. Формування й розвиток конкурентоспроможної особистості в сучасному суспільств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907560"/>
            <a:ext cx="7859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Регіональний освітній проект «Підтримка діяльності закладів загальної середньої освіти Харківської області з навчанням мовами національних меншин в галузі багатомовної освіти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Ухвалено рішенням колегії Департаменту науки і освіти Харківської обласної державної адміністрації від 25 червня 2019 року, затвердженим наказом ДНіО від 05.07.2019 №19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Термін реалізації проекту: 2019/2020 – 2021/2022 навчальні р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66"/>
                </a:solidFill>
                <a:latin typeface="Times New Roman"/>
              </a:rPr>
              <a:t>Методичні класте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истопад-лютий-квітень заплановано 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методичні кластери «Формування ключових компетентностей в умовах мовного занурення» для вчител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української мови та літератури, російської мови та літератури, початкових класів, історії та правознавства, ма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Веб-семіна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Тренінг для вчителів-предметників закладів загальної середньої освіти, що викладають мовами національних меншин, за темою «Специфічно побутова лексика в загальному вжитку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66"/>
                </a:solidFill>
                <a:latin typeface="Times New Roman"/>
              </a:rPr>
              <a:t>Організаційно-методична діяльні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залучення учнів закладів загальної середньої освіти з навчанням  мовами національних меншин до обласних мовно-літературних конкурсів та фестивалів, олімпіад, історико-краєзнавчих експедицій та конференцій.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</a:rPr>
              <a:t>Головний принцип формування освітньої політики України:</a:t>
            </a:r>
            <a:r>
              <a:rPr b="1" lang="uk-UA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Рівний доступ до </a:t>
            </a: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якісної освіти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, незалежно від </a:t>
            </a:r>
            <a:r>
              <a:rPr b="1" lang="uk-UA" sz="3200" spc="-1" strike="noStrike">
                <a:solidFill>
                  <a:srgbClr val="be6a50"/>
                </a:solidFill>
                <a:latin typeface="Times New Roman"/>
              </a:rPr>
              <a:t>етнічного походження люди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Не має значення, чи школяр в українській школі має українське, польське або угорське етнічне походження. Усі громадяни нашої країни мають право мати рівні шанси в житті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Керівники проекту: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Л.КАРПОВА, директор Департаменту науки і освіти Харківської обласної державної адміністрації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Л.ПОКРОЄВА, ректор КВНЗ «Харківська академія неперервної освіти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В.РЄДІНА, директор КЗ «Харківська обласна станція юних туристів» Харківської обласної 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Термін реалізації проекту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2019/2020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66"/>
                </a:solidFill>
                <a:latin typeface="Times New Roman"/>
              </a:rPr>
              <a:t>2021/2022 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навчальні рок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403280" y="2421000"/>
            <a:ext cx="628668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71640" y="2707920"/>
            <a:ext cx="79423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 України «Про освіт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обам, </a:t>
            </a:r>
            <a:r>
              <a:rPr b="0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і належать до </a:t>
            </a:r>
            <a:r>
              <a:rPr b="1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ціональних меншин </a:t>
            </a:r>
            <a:r>
              <a:rPr b="0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їни, гарантується право на навчання в комунальних закладах освіти для здобуття дошкільної та початкової освіти, поряд із державною мовою, мовою відповідної національної менши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 право реалізується шляхом створення відповідно до законодавства окремих класів (груп) з навчанням мовою відповідної національної меншини поряд із державною мовою і не поширюється на класи (групи) з навчанням українською мово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и, що негативно впливають на рівень володіння українською мовою представниками національних менши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іти виростають у </a:t>
            </a:r>
            <a:r>
              <a:rPr b="1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кнутому мовному середовищі</a:t>
            </a:r>
            <a:r>
              <a:rPr b="0" lang="uk-UA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де державна мова практично не використовується. Зокрема, такою є ситуація в громадах російських, угорських та румунських меншин. Багато років у школах з мовою навчання, що належить до мов національних меншин, усі предмети вивчаються мовою меншини, тодi як на вивчення державної відводиться лише дві години на тиждень, і вона вивчається як предмет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ливості мовної політики в країнах Є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шини в Європі повинні вільно володіти державною мовою тієї держави, де вони мешкаю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 – життєво важливо для їхньої повної участі в суспільстві. А отже, держава повинна використати всі засоби, необхідні для того, щоб вони могли її вивчи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ночас держава також повинна забезпечити їм право та можливість використовувати свою рідну мову як у питаннях культури, так і в офіційному спілкуванні. Це, у свою чергу, дозволяє культурам меншин процвітати та дає змогу говорити, що громади користуються поваго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 Турбйорн Ягланд, генеральний секретар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и Європ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жерел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euobserver.com/opinion/13929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66"/>
                </a:solidFill>
                <a:latin typeface="Times New Roman"/>
              </a:rPr>
              <a:t>Актуальність проек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Забезпечення якісної освіти у рамках реалізації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Закону України «Про освіту»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– документу, що є основою реформи національної системи освіти, а саме, статті 7 «Мова освіти», що спрямована на забезпечення належного оволодіння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державною мовою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усіма здобувачами освіти.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Zakon_pro_osvitu"/>
          <p:cNvPicPr/>
          <p:nvPr/>
        </p:nvPicPr>
        <p:blipFill>
          <a:blip r:embed="rId1"/>
          <a:stretch/>
        </p:blipFill>
        <p:spPr>
          <a:xfrm>
            <a:off x="6012000" y="3429000"/>
            <a:ext cx="259236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тонія: аспекти мовної полі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вна    політика    Естонії    яскраво    демонструє    дію    моделі </a:t>
            </a:r>
            <a:r>
              <a:rPr b="1" lang="uk-UA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тнонаціонального захисту </a:t>
            </a:r>
            <a:r>
              <a:rPr b="0" lang="uk-UA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прикладу напрацювання чітких критеріїв належності  до  спільноти,  що  ототожнюється  з  </a:t>
            </a:r>
            <a:r>
              <a:rPr b="1" lang="uk-UA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тульним  етносом  </a:t>
            </a:r>
            <a:r>
              <a:rPr b="0" lang="uk-UA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естонцями,  і  передбачає  формування  держави  однієї  нації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іційне завдання мовної політики  –  відновити  вживання  естонської  мови  в  усіх  сферах життєдіяльності, особливо в освіті та новітніх технологія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тя модель оволодіння державною мово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ціональних громад, материнська мова яких належить до однієї з українською мовної сім’ї, а також для тих, хто проживає переважно в середовищі власної мови. Тобто йдеться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російську мову. Для таких дітей з 5-го класу всі предмети </a:t>
            </a: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кладатимуть українсько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Times New Roman"/>
              </a:rPr>
              <a:t>Актуальність проек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У 2019 році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Міністерством освіти і науки України спільно с Фондом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nove 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(Естонія), за підтримки Міністерства закордонних справ Естонії, запроваджено проект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«Підтримка діяльності українських шкіл та Міністерства освіти і науки України у галузі багатомовної освіти».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У рамках вищезазначеного проекту освітянами Харківської області було здійснено візит до міста Таллінна з метою вивчення досвіду естонських колег щодо моделі </a:t>
            </a:r>
            <a:r>
              <a:rPr b="1" lang="uk-UA" sz="2800" spc="-1" strike="noStrike">
                <a:solidFill>
                  <a:srgbClr val="000066"/>
                </a:solidFill>
                <a:latin typeface="Times New Roman"/>
              </a:rPr>
              <a:t>мовного занурення</a:t>
            </a:r>
            <a:r>
              <a:rPr b="0" lang="uk-UA" sz="2800" spc="-1" strike="noStrike">
                <a:solidFill>
                  <a:srgbClr val="000066"/>
                </a:solidFill>
                <a:latin typeface="Times New Roman"/>
              </a:rPr>
              <a:t> в закладах із російською мовою навчання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office</cp:lastModifiedBy>
  <dcterms:modified xsi:type="dcterms:W3CDTF">2019-10-29T10:09:31Z</dcterms:modified>
  <cp:revision>104</cp:revision>
  <dc:subject/>
  <dc:title>Презентация PowerPoint</dc:title>
</cp:coreProperties>
</file>