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A49-62FB-4C67-8CB4-B1211031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910-279E-4BB9-8788-11D15648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80F-F52B-42A2-B412-B9FE8BF9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B2C-FFAC-4171-96B8-2A9AD53E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2D1-2F2B-4A35-A7A3-E2353CAC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D106-1026-44AA-BDEC-04ACCF83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5B4B-B42B-49BF-91C3-E7692057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6820-AF44-4690-8AA7-B104B0A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CB67-E969-4371-81F3-F9D9456F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2ED5-0C7B-48A6-8A5E-CAB1A810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6E84-468F-4123-8E2C-496464A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D88-87EC-42C6-89BE-3F1B4E41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EA03-B128-447B-9CCE-785175A0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8D35-904B-4171-B80B-EF19B820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6C22-01BC-4950-9612-204ADE11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B32-D9A7-4AE1-B2BE-DFC24B00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D07E-8CBA-470B-B3DA-22D7D303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6E8-D7D9-4A82-87D3-87818BB3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3F94-ACBB-4DA4-B7C0-2948786B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3BE-F558-4F5E-A7CA-8FCB6A39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A21-5006-4F2A-978F-D929AE5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280-A479-4E94-81D6-60C406A1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48A-E76E-47E1-8514-33E61A56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65F-947C-4047-AEC5-19345B3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386C-A6F6-452F-B98C-0BEF471C87F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709B-5DD4-4BD5-8F35-BA71C9D6EAE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4240e"/>
                </a:solidFill>
                <a:latin typeface="Times New Roman"/>
              </a:rPr>
              <a:t>Основні складові</a:t>
            </a:r>
            <a:br>
              <a:rPr sz="3200"/>
            </a:br>
            <a:r>
              <a:rPr b="1" lang="uk-UA" sz="3200" spc="-1" strike="noStrike">
                <a:solidFill>
                  <a:srgbClr val="94240e"/>
                </a:solidFill>
                <a:latin typeface="Times New Roman"/>
              </a:rPr>
              <a:t> управлінської компетентності директора закладу загальної середньої освіти в умовах реалізації концепції “Нова українська школа”</a:t>
            </a:r>
            <a:r>
              <a:rPr b="0" lang="ru-RU" sz="5200" spc="-1" strike="noStrike">
                <a:solidFill>
                  <a:srgbClr val="999900"/>
                </a:solidFill>
                <a:latin typeface="Times New Roman"/>
              </a:rPr>
              <a:t> 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492000" y="3860280"/>
            <a:ext cx="532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Єжелий В.М.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ступник завідувача Центру організаційно-методичної роботи з керівними кадрами КВНЗ «Харківська академія неперервної освіт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95373e"/>
                </a:solidFill>
                <a:latin typeface="Times New Roman"/>
              </a:rPr>
              <a:t>Якості, що необхідні успішному керівнику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cc"/>
                </a:solidFill>
                <a:uFillTx/>
                <a:latin typeface="Times New Roman"/>
              </a:rPr>
              <a:t>концептуальні здіб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здатність усвідомлювати причинно-наслідкові зв’язки в організації, бачити, яким чином можна скоординувати діяльність окремих частин організації, аби досягти поставлених цілей найбільш продуктивним способом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cc"/>
                </a:solidFill>
                <a:uFillTx/>
                <a:latin typeface="Times New Roman"/>
              </a:rPr>
              <a:t>аналітичні здіб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здатність ідентифікувати ключові фактори тієї чи іншої ситуації, визначати їх взаємодію і ступінь важливості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cc"/>
                </a:solidFill>
                <a:uFillTx/>
                <a:latin typeface="Times New Roman"/>
              </a:rPr>
              <a:t>діагностичні здіб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здатність ставити діагноз проблем організації, тобто визначати їх симптоми та причини виникнення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cc"/>
                </a:solidFill>
                <a:uFillTx/>
                <a:latin typeface="Times New Roman"/>
              </a:rPr>
              <a:t>здатність взаємодіяти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uk-UA" sz="2400" spc="-1" strike="noStrike" u="sng">
                <a:solidFill>
                  <a:srgbClr val="2c00a8"/>
                </a:solidFill>
                <a:uFillTx/>
                <a:latin typeface="Times New Roman"/>
              </a:rPr>
              <a:t>з людь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здатність налагоджувати контакти та будувати стосунки із співробітниками організації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 u="sng">
                <a:solidFill>
                  <a:srgbClr val="0000cc"/>
                </a:solidFill>
                <a:uFillTx/>
                <a:latin typeface="Times New Roman"/>
              </a:rPr>
              <a:t>технічні здіб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здатність кваліфіковано, із знанням справи виконувати роботу на своїй ділянці, технічні прийоми конкретної діяльності)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5373e"/>
                </a:solidFill>
                <a:latin typeface="Times New Roman"/>
              </a:rPr>
              <a:t>Основні складові управлінської компетентності керівників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439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Концептуаль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здатність усвідомлювати перспективи організації, планувати цілі, розробляти відповідні стратегії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Майстерність прийняття рішен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, здатність обрати оптимальний варіант із існуючих альтернативни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Адміністратив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здатність дотримуватись законодавства, організаційних правил, ефективно діяти в умовах обмежень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Технологіч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ефективна діяльність з реалізації функцій управлінн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Аналітич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здатність до системної діагностики, використання наукових методів дослідженн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Планово-прогностич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- ефективність організації процесів формування цільового блоку діяльності, оптимальне визначення шляхів та засобів досягнення місії організації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Організацій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мистецтво керівника у роботі з ресурсним забезпеченням (кадрова, фінансова, соціальна політика та ін.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Контрольно-оцінюваль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- ефективна реалізація принципів мотивуючого контролю, моніторинг цілей та результатів діяльності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Регуляторно-коригуюч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вміння швидко реагувати на відхилення від стандартів, управління розвитком та інноваціям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ff"/>
                </a:solidFill>
                <a:latin typeface="Times New Roman"/>
              </a:rPr>
              <a:t>Комунікативна та психологічна майстерність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- здатність ефективно передавати свої ідеї, думки іншим; вести обговорення, дискусії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5373e"/>
                </a:solidFill>
                <a:latin typeface="Times New Roman"/>
              </a:rPr>
              <a:t>Механізми та ефекти міжособистісної перцепції (емпатія)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507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прийняття́, сприйма́ння (перцепція, від лат. perceptio)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— пізнавальний психічний процес, який полягає у відображенні людиною предметів і явищ у сукупност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знання іншої людини супроводжується емоційною оцінкою цієї людин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дентифікаці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(від лат. identicus — тотожній), виражає той факт, що одним із найпростіших способів розуміння іншої людини є уподібнення себе до неї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Ідентифікаці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ктують як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процес ототожн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уподібнення) себе з іншим індивідом або групою, в основі якого лежить емоційний зв’язо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набуття, засвоєння цінносте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ролей, моральних якостей іншої людини, особливо батькі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копіювання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уб’єктом думок, почуттів або дій іншої людини, яка є моделлю, та і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48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3600" spc="-1" strike="noStrike">
                <a:solidFill>
                  <a:srgbClr val="008000"/>
                </a:solidFill>
                <a:latin typeface="Times New Roman"/>
              </a:rPr>
              <a:t>Управлінське рішення</a:t>
            </a:r>
            <a:r>
              <a:rPr b="1" lang="uk-UA" sz="3200" spc="-1" strike="noStrike">
                <a:solidFill>
                  <a:srgbClr val="999900"/>
                </a:solidFill>
                <a:latin typeface="Times New Roman"/>
              </a:rPr>
              <a:t> :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відома та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цілеспрямована діяльніс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яку здійснює люди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оведінк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заснована на фактах і ціннісних орієнтаціях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цес взаємод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членів організації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вибір альтернатив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частина загального процесу управлінн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еминуча частина щоденної роботи менеджер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2196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форма здійснення управлі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B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!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іст, процвітання і невдачі будь-якої організації є наслідком рішень, прийнятих її керівнико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uk-U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94240e"/>
                </a:solidFill>
                <a:uFillTx/>
                <a:latin typeface="Times New Roman"/>
              </a:rPr>
              <a:t>Прийняття правильних рішень</a:t>
            </a:r>
            <a:r>
              <a:rPr b="1" lang="uk-UA" sz="2800" spc="-1" strike="noStrike">
                <a:solidFill>
                  <a:srgbClr val="95373e"/>
                </a:solidFill>
                <a:latin typeface="Times New Roman"/>
              </a:rPr>
              <a:t> – </a:t>
            </a:r>
            <a:r>
              <a:rPr b="1" lang="uk-UA" sz="2800" spc="-1" strike="noStrike">
                <a:solidFill>
                  <a:srgbClr val="95373e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95373e"/>
                </a:solidFill>
                <a:latin typeface="Times New Roman"/>
              </a:rPr>
              <a:t>це управлінське мистецтво, що визначає ефективність управління, розподілу ресурсів і досягнення організаційних цілей</a:t>
            </a:r>
            <a:r>
              <a:rPr b="1" lang="uk-UA" sz="2400" spc="-1" strike="noStrike">
                <a:solidFill>
                  <a:srgbClr val="95373e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4240e"/>
                </a:solidFill>
                <a:latin typeface="Times New Roman"/>
              </a:rPr>
              <a:t>Документальне забезпечення</a:t>
            </a:r>
            <a:br>
              <a:rPr sz="3200"/>
            </a:br>
            <a:r>
              <a:rPr b="1" lang="uk-UA" sz="3200" spc="-1" strike="noStrike">
                <a:solidFill>
                  <a:srgbClr val="94240e"/>
                </a:solidFill>
                <a:latin typeface="Times New Roman"/>
              </a:rPr>
              <a:t> менеджменту організації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окументальне забезпечення процес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правління спрямоване на рішення двох задач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створення документ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, визначення їхньої форми і змісту виходячи з принципів раціонального документування інформації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обслуговування всіх ланок організа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окументованою інформацією, необхідною для виконання їх функці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Документальне забезпечення є невід'ємною частиною будь-якої функції управління</a:t>
            </a:r>
            <a:r>
              <a:rPr b="1" lang="uk-UA" sz="2400" spc="-1" strike="noStrike">
                <a:solidFill>
                  <a:srgbClr val="2c00a8"/>
                </a:solidFill>
                <a:latin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скільки жодна з них не може обійтися без підготовки, передачі, оформлення, збереження і використання документі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B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У загальному обсязі робіт з виконання функцій управління ці операції займають       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25-30%,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 впливають на оперативність, економічність і надійність роботи апарата управлінн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4240e"/>
                </a:solidFill>
                <a:latin typeface="Times New Roman"/>
              </a:rPr>
              <a:t>Мотивація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78000" indent="14040" algn="just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Мотивація</a:t>
            </a:r>
            <a:r>
              <a:rPr b="0" lang="uk-UA" sz="2400" spc="-1" strike="noStrike">
                <a:solidFill>
                  <a:srgbClr val="a80c22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</a:rPr>
              <a:t>це сукупність внутрішніх і зовнішніх рушійних сил, що спонукують людину, задають границі і форми діяльності і придають їй спрямованість, орієнтовану на досягнення визначених ціле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(потреба, мотиви, стимули, цінності).</a:t>
            </a:r>
            <a:r>
              <a:rPr b="1" lang="uk-UA" sz="2400" spc="-1" strike="noStrike">
                <a:solidFill>
                  <a:srgbClr val="a80c2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c00a8"/>
                </a:solidFill>
                <a:latin typeface="Times New Roman"/>
              </a:rPr>
              <a:t>Комплексна мотиваційна функція</a:t>
            </a:r>
            <a:r>
              <a:rPr b="1" lang="uk-UA" sz="2400" spc="-1" strike="noStrike">
                <a:solidFill>
                  <a:srgbClr val="a80c22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овинна одночасно вирішувати</a:t>
            </a:r>
            <a:r>
              <a:rPr b="0" lang="uk-UA" sz="2400" spc="-1" strike="noStrike">
                <a:solidFill>
                  <a:srgbClr val="a80c22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a80c22"/>
                </a:solidFill>
                <a:latin typeface="Times New Roman"/>
              </a:rPr>
              <a:t>три задачі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uk-UA" sz="2400" spc="-1" strike="noStrike">
                <a:solidFill>
                  <a:srgbClr val="2c00a8"/>
                </a:solidFill>
                <a:latin typeface="Times New Roman"/>
              </a:rPr>
              <a:t>Сприя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лученню кваліфікованих робітник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uk-UA" sz="2400" spc="-1" strike="noStrike">
                <a:solidFill>
                  <a:srgbClr val="2c00a8"/>
                </a:solidFill>
                <a:latin typeface="Times New Roman"/>
              </a:rPr>
              <a:t>Утримува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кваліфікований персона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uk-UA" sz="2400" spc="-1" strike="noStrike">
                <a:solidFill>
                  <a:srgbClr val="2c00a8"/>
                </a:solidFill>
                <a:latin typeface="Times New Roman"/>
              </a:rPr>
              <a:t>Настроюва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робітників на ефективну працю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B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!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Вивчення мотивації дозволяє зрозуміти, що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мушує людину працювати, що впливає на вибір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засобу діяльності і чому дотримується його 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протягом визначеного час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5373e"/>
                </a:solidFill>
                <a:latin typeface="Times New Roman"/>
              </a:rPr>
              <a:t>Ключові напрями</a:t>
            </a:r>
            <a:br>
              <a:rPr sz="3200"/>
            </a:br>
            <a:r>
              <a:rPr b="1" lang="uk-UA" sz="3200" spc="-1" strike="noStrike">
                <a:solidFill>
                  <a:srgbClr val="95373e"/>
                </a:solidFill>
                <a:latin typeface="Times New Roman"/>
              </a:rPr>
              <a:t> діяльності директора сучасної школ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озитивне сприйняття ідеї докорінного реформування системи загальної середньої осві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прийняття концептуальних позицій Нової української школи як стратегії розвитку закладу, педагогічного колективу і власного професійного й особистісного розвитку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ереорієнтація на нові показники якості  освітньої діяльності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Акцент на таких основоположних термінах як “автономія”,  “професіоналізм”, “кваліфікація”, “компетентність”, “освітній процес”, “безпека життєдіяльності”, “партнерство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обудова моделі визначення компетентності керівника в умовах розвитку закладу загальної середньої осві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Фінансова, академічна, кадрова та організаційна автономія закладу освіти у межах, визначених законом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569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Monotype Corsiva"/>
              </a:rPr>
              <a:t>ДЯКУЮ ЗА УВАГУ!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490480"/>
            <a:ext cx="822960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00"/>
                </a:solidFill>
                <a:latin typeface="Monotype Corsiva"/>
              </a:rPr>
              <a:t>Центр організаційно</a:t>
            </a:r>
            <a:r>
              <a:rPr b="0" lang="ru-RU" sz="3200" spc="-1" strike="noStrike">
                <a:solidFill>
                  <a:srgbClr val="006600"/>
                </a:solidFill>
                <a:latin typeface="Monotype Corsiva"/>
              </a:rPr>
              <a:t>-</a:t>
            </a:r>
            <a:r>
              <a:rPr b="0" lang="uk-UA" sz="3200" spc="-1" strike="noStrike">
                <a:solidFill>
                  <a:srgbClr val="006600"/>
                </a:solidFill>
                <a:latin typeface="Monotype Corsiva"/>
              </a:rPr>
              <a:t>методичної роботи</a:t>
            </a:r>
            <a:r>
              <a:rPr b="0" lang="en-US" sz="3200" spc="-1" strike="noStrike">
                <a:solidFill>
                  <a:srgbClr val="006600"/>
                </a:solidFill>
                <a:latin typeface="Monotype Corsiva"/>
              </a:rPr>
              <a:t> </a:t>
            </a:r>
            <a:r>
              <a:rPr b="0" lang="uk-UA" sz="3200" spc="-1" strike="noStrike">
                <a:solidFill>
                  <a:srgbClr val="006600"/>
                </a:solidFill>
                <a:latin typeface="Monotype Corsiva"/>
              </a:rPr>
              <a:t>з керівними кадр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00"/>
                </a:solidFill>
                <a:latin typeface="Monotype Corsiva"/>
              </a:rPr>
              <a:t>Харківської академії неперервної осві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c00a8"/>
                </a:solidFill>
                <a:latin typeface="Monotype Corsiva"/>
              </a:rPr>
              <a:t>Контактний телефон</a:t>
            </a:r>
            <a:r>
              <a:rPr b="1" lang="uk-UA" sz="3200" spc="-1" strike="noStrike">
                <a:solidFill>
                  <a:srgbClr val="2c00a8"/>
                </a:solidFill>
                <a:latin typeface="Monotype Corsiva"/>
              </a:rPr>
              <a:t>: </a:t>
            </a:r>
            <a:r>
              <a:rPr b="1" lang="uk-UA" sz="3200" spc="-1" strike="noStrike">
                <a:solidFill>
                  <a:srgbClr val="a80c22"/>
                </a:solidFill>
                <a:latin typeface="Monotype Corsiva"/>
              </a:rPr>
              <a:t>731 12 34</a:t>
            </a:r>
            <a:r>
              <a:rPr b="1" lang="en-US" sz="3200" spc="-1" strike="noStrike">
                <a:solidFill>
                  <a:srgbClr val="a80c22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6a1"/>
                </a:solidFill>
                <a:latin typeface="Times New Roman"/>
              </a:rPr>
              <a:t>Lanz-onmibo@ukr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61614"/>
                </a:solidFill>
                <a:latin typeface="Times New Roman"/>
              </a:rPr>
              <a:t>Newschoolmanager.blogspot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клад загальної середньої освіти</a:t>
            </a:r>
            <a:r>
              <a:rPr b="1" lang="uk-UA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uk-UA" sz="2800" spc="-1" strike="noStrike">
                <a:solidFill>
                  <a:srgbClr val="003300"/>
                </a:solidFill>
                <a:latin typeface="Times New Roman"/>
              </a:rPr>
              <a:t>— </a:t>
            </a:r>
            <a:r>
              <a:rPr b="0" lang="uk-UA" sz="2200" spc="-1" strike="noStrike">
                <a:solidFill>
                  <a:srgbClr val="000099"/>
                </a:solidFill>
                <a:latin typeface="Times New Roman"/>
              </a:rPr>
              <a:t>організація, що на постійній і безперервній основі здійснює освітній процес з метою навчання, виховання, розвитку і самовдосконалення особистості</a:t>
            </a:r>
            <a:r>
              <a:rPr b="0" lang="uk-UA" sz="2200" spc="-1" strike="noStrike">
                <a:solidFill>
                  <a:srgbClr val="9999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3300"/>
                </a:solidFill>
                <a:uFillTx/>
                <a:latin typeface="Times New Roman"/>
              </a:rPr>
              <a:t>Метою освіти є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800080"/>
                </a:solidFill>
                <a:latin typeface="Times New Roman"/>
              </a:rPr>
              <a:t>всебічний розвиток людини як особистості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0f16a1"/>
                </a:solidFill>
                <a:latin typeface="Times New Roman"/>
              </a:rPr>
              <a:t>розвиток її талантів, інтелектуальних, творчих і фізичних здібностей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0f16a1"/>
                </a:solidFill>
                <a:latin typeface="Times New Roman"/>
              </a:rPr>
              <a:t>формування цінностей і необхідних для успішної самореалізації компетентностей</a:t>
            </a: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663300"/>
                </a:solidFill>
                <a:latin typeface="Times New Roman"/>
              </a:rPr>
              <a:t>виховання відповідальних громадян, які здатні до свідомого суспільного вибору та діяльності на користь людям і суспільству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uk-UA" sz="2300" spc="-1" strike="noStrike">
                <a:solidFill>
                  <a:srgbClr val="663300"/>
                </a:solidFill>
                <a:latin typeface="Times New Roman"/>
              </a:rPr>
              <a:t>збагачення інтелектуального, економічного, творчого, культурного потенціалу Українського народу,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575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663300"/>
                </a:solidFill>
                <a:latin typeface="Times New Roman"/>
              </a:rPr>
              <a:t>підвищення освітнього рівня громадян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. 12 Закону Укра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їни “Про освіту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77560"/>
            <a:ext cx="7354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95373e"/>
                </a:solidFill>
                <a:latin typeface="Times New Roman"/>
              </a:rPr>
              <a:t>Структура управління освітою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39640" y="907920"/>
            <a:ext cx="8352000" cy="5950080"/>
            <a:chOff x="539640" y="907920"/>
            <a:chExt cx="8352000" cy="5950080"/>
          </a:xfrm>
        </p:grpSpPr>
        <p:sp>
          <p:nvSpPr>
            <p:cNvPr id="97" name="AutoShape 5"/>
            <p:cNvSpPr/>
            <p:nvPr/>
          </p:nvSpPr>
          <p:spPr>
            <a:xfrm>
              <a:off x="539640" y="907920"/>
              <a:ext cx="8352000" cy="59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6"/>
            <p:cNvSpPr/>
            <p:nvPr/>
          </p:nvSpPr>
          <p:spPr>
            <a:xfrm>
              <a:off x="2842920" y="1017000"/>
              <a:ext cx="3456720" cy="386280"/>
            </a:xfrm>
            <a:prstGeom prst="rect">
              <a:avLst/>
            </a:prstGeom>
            <a:gradFill rotWithShape="0">
              <a:gsLst>
                <a:gs pos="0">
                  <a:srgbClr val="00ccff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80"/>
                  </a:solidFill>
                  <a:latin typeface="Times New Roman"/>
                </a:rPr>
                <a:t>Державний рів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993300"/>
                  </a:solidFill>
                  <a:latin typeface="Times New Roman"/>
                </a:rPr>
                <a:t>Міністерство освіти і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2699280" y="1491480"/>
              <a:ext cx="3955320" cy="605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99cc00"/>
                </a:gs>
              </a:gsLst>
              <a:lin ang="5400000"/>
            </a:gra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80"/>
                  </a:solidFill>
                  <a:latin typeface="Times New Roman"/>
                </a:rPr>
                <a:t>Регіональний рівен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800000"/>
                  </a:solidFill>
                  <a:latin typeface="Times New Roman"/>
                </a:rPr>
                <a:t>Департамент науки і осві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r>
                <a:rPr b="1" lang="uk-UA" sz="1200" spc="-1" strike="noStrike">
                  <a:solidFill>
                    <a:srgbClr val="800000"/>
                  </a:solidFill>
                  <a:latin typeface="Times New Roman"/>
                </a:rPr>
                <a:t>Харківської державної адміністраці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2593800" y="2250000"/>
              <a:ext cx="4137840" cy="4147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0080"/>
                  </a:solidFill>
                  <a:latin typeface="Times New Roman"/>
                </a:rPr>
                <a:t>Місцевий ріве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800000"/>
                  </a:solidFill>
                  <a:latin typeface="Times New Roman"/>
                </a:rPr>
                <a:t>Район, Місто, Об’єднана територіальна грома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9"/>
            <p:cNvSpPr/>
            <p:nvPr/>
          </p:nvSpPr>
          <p:spPr>
            <a:xfrm>
              <a:off x="4427640" y="2096640"/>
              <a:ext cx="287640" cy="1530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7692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H="1">
              <a:off x="3496320" y="2664720"/>
              <a:ext cx="96984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1"/>
            <p:cNvSpPr/>
            <p:nvPr/>
          </p:nvSpPr>
          <p:spPr>
            <a:xfrm>
              <a:off x="4572720" y="2664720"/>
              <a:ext cx="104508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2"/>
            <p:cNvSpPr/>
            <p:nvPr/>
          </p:nvSpPr>
          <p:spPr>
            <a:xfrm>
              <a:off x="4427640" y="2664720"/>
              <a:ext cx="287640" cy="1582200"/>
            </a:xfrm>
            <a:prstGeom prst="downArrow">
              <a:avLst>
                <a:gd name="adj1" fmla="val 50000"/>
                <a:gd name="adj2" fmla="val 137516"/>
              </a:avLst>
            </a:prstGeom>
            <a:solidFill>
              <a:srgbClr val="76923c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1058040" y="4728240"/>
              <a:ext cx="2303640" cy="452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організовує діяльність закладу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"/>
            <p:cNvSpPr/>
            <p:nvPr/>
          </p:nvSpPr>
          <p:spPr>
            <a:xfrm>
              <a:off x="1058040" y="5238720"/>
              <a:ext cx="2303640" cy="583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вирішує питання фінансово-господарської діяльност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5618160" y="4728240"/>
              <a:ext cx="2736000" cy="65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сприяє здоровому способу життя здобувачів освіти та працівників закладу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5618160" y="5457600"/>
              <a:ext cx="2736000" cy="568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забезпечує функціонування внутрішньої системи якості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17"/>
            <p:cNvSpPr/>
            <p:nvPr/>
          </p:nvSpPr>
          <p:spPr>
            <a:xfrm>
              <a:off x="4427640" y="1403640"/>
              <a:ext cx="143640" cy="878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76923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826920" y="3036960"/>
              <a:ext cx="3128400" cy="423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Відповідає за реалізацію державної політики у сфері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9"/>
            <p:cNvSpPr/>
            <p:nvPr/>
          </p:nvSpPr>
          <p:spPr>
            <a:xfrm>
              <a:off x="5146920" y="3037680"/>
              <a:ext cx="3100320" cy="422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Здійснює функції засновника щодо підпорядкованих закладі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952560" y="3722040"/>
              <a:ext cx="2880000" cy="41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Відповідає за забезпечення якості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5002920" y="3627360"/>
              <a:ext cx="3456720" cy="55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Відповідає за доступність дошкільної, початкової, базової середньої та позашкільної осві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AutoShape 22"/>
            <p:cNvCxnSpPr>
              <a:stCxn id="104" idx="0"/>
              <a:endCxn id="112" idx="3"/>
            </p:cNvCxnSpPr>
            <p:nvPr/>
          </p:nvCxnSpPr>
          <p:spPr>
            <a:xfrm flipH="1">
              <a:off x="3832200" y="2664720"/>
              <a:ext cx="739440" cy="126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AutoShape 23"/>
            <p:cNvCxnSpPr>
              <a:stCxn id="104" idx="1"/>
            </p:cNvCxnSpPr>
            <p:nvPr/>
          </p:nvCxnSpPr>
          <p:spPr>
            <a:xfrm>
              <a:off x="4571640" y="2664720"/>
              <a:ext cx="576000" cy="89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Text Box 24"/>
            <p:cNvSpPr/>
            <p:nvPr/>
          </p:nvSpPr>
          <p:spPr>
            <a:xfrm>
              <a:off x="2842920" y="4247280"/>
              <a:ext cx="3675960" cy="386280"/>
            </a:xfrm>
            <a:prstGeom prst="rect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0080"/>
                  </a:solidFill>
                  <a:latin typeface="Arial"/>
                </a:rPr>
                <a:t>Заклад загальної середньої освіт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800000"/>
                  </a:solidFill>
                  <a:latin typeface="Arial"/>
                </a:rPr>
                <a:t>Директор шко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5"/>
            <p:cNvSpPr/>
            <p:nvPr/>
          </p:nvSpPr>
          <p:spPr>
            <a:xfrm>
              <a:off x="1058040" y="5873400"/>
              <a:ext cx="2303640" cy="831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забезпечує організацію освітнього процесу та здійснення контролю за ни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5618160" y="6106680"/>
              <a:ext cx="2736000" cy="5983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100" spc="-1" strike="noStrike">
                  <a:solidFill>
                    <a:srgbClr val="000000"/>
                  </a:solidFill>
                  <a:latin typeface="Times New Roman"/>
                </a:rPr>
                <a:t>створює умови для діяльності органів самоврядування заклад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27"/>
            <p:cNvCxnSpPr>
              <a:stCxn id="116" idx="2"/>
              <a:endCxn id="105" idx="3"/>
            </p:cNvCxnSpPr>
            <p:nvPr/>
          </p:nvCxnSpPr>
          <p:spPr>
            <a:xfrm flipH="1">
              <a:off x="3361320" y="4633560"/>
              <a:ext cx="1320480" cy="321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AutoShape 28"/>
            <p:cNvCxnSpPr>
              <a:stCxn id="116" idx="2"/>
              <a:endCxn id="106" idx="3"/>
            </p:cNvCxnSpPr>
            <p:nvPr/>
          </p:nvCxnSpPr>
          <p:spPr>
            <a:xfrm flipH="1">
              <a:off x="3361320" y="4633200"/>
              <a:ext cx="1320480" cy="897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AutoShape 29"/>
            <p:cNvCxnSpPr>
              <a:stCxn id="116" idx="2"/>
              <a:endCxn id="117" idx="3"/>
            </p:cNvCxnSpPr>
            <p:nvPr/>
          </p:nvCxnSpPr>
          <p:spPr>
            <a:xfrm flipH="1">
              <a:off x="3361320" y="4633560"/>
              <a:ext cx="1320480" cy="165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AutoShape 30"/>
            <p:cNvCxnSpPr>
              <a:stCxn id="116" idx="2"/>
              <a:endCxn id="107" idx="1"/>
            </p:cNvCxnSpPr>
            <p:nvPr/>
          </p:nvCxnSpPr>
          <p:spPr>
            <a:xfrm>
              <a:off x="4681800" y="4633560"/>
              <a:ext cx="936720" cy="42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31"/>
            <p:cNvCxnSpPr>
              <a:stCxn id="116" idx="2"/>
              <a:endCxn id="108" idx="1"/>
            </p:cNvCxnSpPr>
            <p:nvPr/>
          </p:nvCxnSpPr>
          <p:spPr>
            <a:xfrm>
              <a:off x="4681800" y="4633200"/>
              <a:ext cx="936720" cy="11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32"/>
            <p:cNvCxnSpPr>
              <a:stCxn id="116" idx="2"/>
              <a:endCxn id="118" idx="1"/>
            </p:cNvCxnSpPr>
            <p:nvPr/>
          </p:nvCxnSpPr>
          <p:spPr>
            <a:xfrm>
              <a:off x="4681800" y="4633200"/>
              <a:ext cx="936720" cy="177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479160"/>
            <a:ext cx="842472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5373e"/>
                </a:solidFill>
                <a:latin typeface="Times New Roman"/>
              </a:rPr>
              <a:t>Внутрішня система управління</a:t>
            </a:r>
            <a:br>
              <a:rPr sz="2800"/>
            </a:br>
            <a:r>
              <a:rPr b="1" lang="uk-UA" sz="2800" spc="-1" strike="noStrike">
                <a:solidFill>
                  <a:srgbClr val="95373e"/>
                </a:solidFill>
                <a:latin typeface="Times New Roman"/>
              </a:rPr>
              <a:t> закладом загальної середньої освіт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195640" y="1628640"/>
            <a:ext cx="4608360" cy="792360"/>
          </a:xfrm>
          <a:prstGeom prst="flowChartAlternateProcess">
            <a:avLst/>
          </a:prstGeom>
          <a:gradFill rotWithShape="0">
            <a:gsLst>
              <a:gs pos="0">
                <a:srgbClr val="6289e0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клад загальної середньої осві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ресур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2781360"/>
            <a:ext cx="4032360" cy="752400"/>
          </a:xfrm>
          <a:prstGeom prst="flowChartAlternateProcess">
            <a:avLst/>
          </a:prstGeom>
          <a:solidFill>
            <a:srgbClr val="b1a6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іс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та, зав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43280" y="3860640"/>
            <a:ext cx="3384360" cy="609840"/>
          </a:xfrm>
          <a:prstGeom prst="flowChartAlternateProcess">
            <a:avLst/>
          </a:prstGeom>
          <a:solidFill>
            <a:srgbClr val="d59b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правління -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адміністраці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4797360"/>
            <a:ext cx="5256360" cy="609840"/>
          </a:xfrm>
          <a:prstGeom prst="flowChartAlternateProcess">
            <a:avLst/>
          </a:prstGeom>
          <a:solidFill>
            <a:srgbClr val="e6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агальні функції управлі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(планування, організація, мотивація, контро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5734080"/>
            <a:ext cx="5977080" cy="609480"/>
          </a:xfrm>
          <a:prstGeom prst="flowChartAlternateProcess">
            <a:avLst/>
          </a:prstGeom>
          <a:solidFill>
            <a:srgbClr val="b79c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тоди управлі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(способи і прийоми заходів щодо досягнення ме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2421000"/>
            <a:ext cx="720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40360" y="3573360"/>
            <a:ext cx="647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11640" y="4508640"/>
            <a:ext cx="57636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84720" y="5373720"/>
            <a:ext cx="503280" cy="3603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432800">
            <a:off x="409680" y="2982600"/>
            <a:ext cx="3024000" cy="305280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3052800"/>
              <a:gd name="textAreaBottom" fmla="*/ 3053160 h 3052800"/>
            </a:gdLst>
            <a:ahLst/>
            <a:rect l="textAreaLeft" t="textAreaTop" r="textAreaRight" b="textAreaBottom"/>
            <a:pathLst>
              <a:path w="21600" h="21600">
                <a:moveTo>
                  <a:pt x="1826" y="11100"/>
                </a:moveTo>
                <a:arcTo wR="-8979" hR="-8979" stAng="10685119" swAng="-10281919"/>
                <a:lnTo>
                  <a:pt x="74" y="9536"/>
                </a:lnTo>
                <a:arcTo wR="10800" hR="10800" stAng="-10396800" swAng="10281919"/>
                <a:lnTo>
                  <a:pt x="24292" y="10349"/>
                </a:lnTo>
                <a:lnTo>
                  <a:pt x="20805" y="14078"/>
                </a:lnTo>
                <a:lnTo>
                  <a:pt x="17075" y="10590"/>
                </a:lnTo>
                <a:close/>
              </a:path>
            </a:pathLst>
          </a:custGeom>
          <a:solidFill>
            <a:srgbClr val="78ca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5373e"/>
                </a:solidFill>
                <a:latin typeface="Times New Roman"/>
              </a:rPr>
              <a:t>РОЛЬ І МІСЦЕ ШКОЛИ</a:t>
            </a:r>
            <a:br>
              <a:rPr sz="2400"/>
            </a:br>
            <a:r>
              <a:rPr b="1" lang="uk-UA" sz="2400" spc="-1" strike="noStrike">
                <a:solidFill>
                  <a:srgbClr val="95373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5373e"/>
                </a:solidFill>
                <a:latin typeface="Times New Roman"/>
              </a:rPr>
              <a:t>ЯК</a:t>
            </a:r>
            <a:r>
              <a:rPr b="0" lang="uk-UA" sz="2400" spc="-1" strike="noStrike">
                <a:solidFill>
                  <a:srgbClr val="95373e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95373e"/>
                </a:solidFill>
                <a:latin typeface="Times New Roman"/>
              </a:rPr>
              <a:t>ЦЕНТРУ РОЗВИТКУ МІСЦЕВОЇ ГРОМАДИ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376360" cy="1874880"/>
          </a:xfrm>
          <a:prstGeom prst="rect">
            <a:avLst/>
          </a:prstGeom>
          <a:ln w="0">
            <a:noFill/>
          </a:ln>
        </p:spPr>
      </p:pic>
      <p:sp>
        <p:nvSpPr>
          <p:cNvPr id="139" name="Oval 5"/>
          <p:cNvSpPr/>
          <p:nvPr/>
        </p:nvSpPr>
        <p:spPr>
          <a:xfrm>
            <a:off x="395280" y="4437000"/>
            <a:ext cx="2808360" cy="100800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ВИХОВАННЯ УЧНЯ НА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ЦІННОСТ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324000" y="3213000"/>
            <a:ext cx="2736720" cy="100800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ОВІ ТЕХНОЛОГІЇ ОСВІ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68360" y="2133720"/>
            <a:ext cx="2590920" cy="86364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ЕДАГОГІКА ПАРТН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3132000" y="4941720"/>
            <a:ext cx="2448000" cy="91440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НОВЕ ОСВІТНЄ СЕРЕДОВ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5580000" y="2060640"/>
            <a:ext cx="3095640" cy="86364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ВТОНОМ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5651640" y="3141720"/>
            <a:ext cx="3024000" cy="100800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УМОТИВ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КОМПЕТЕНТНИЙ УЧ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5508720" y="4292640"/>
            <a:ext cx="3166920" cy="1008000"/>
          </a:xfrm>
          <a:prstGeom prst="ellipse">
            <a:avLst/>
          </a:prstGeom>
          <a:solidFill>
            <a:srgbClr val="edf86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ЕДЛИВЕ ФІНАНСУВ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2771280" y="2852280"/>
            <a:ext cx="505080" cy="792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3059280" y="3716280"/>
            <a:ext cx="21744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>
            <a:off x="2987280" y="3716280"/>
            <a:ext cx="289080" cy="936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4284720" y="4076640"/>
            <a:ext cx="0" cy="865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5364000" y="2708280"/>
            <a:ext cx="50328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5364000" y="3500280"/>
            <a:ext cx="287640" cy="73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5364000" y="3500280"/>
            <a:ext cx="360360" cy="1008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2340000" y="197208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f7e00"/>
                </a:solidFill>
                <a:latin typeface="Arial"/>
                <a:ea typeface="Times New Roman"/>
              </a:rPr>
              <a:t>(КЛЮЧОВІ КОМПОНЕНТИ НУШ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1514520" y="3396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5373e"/>
                </a:solidFill>
                <a:latin typeface="Times New Roman"/>
              </a:rPr>
              <a:t>Основні групи методів управління сучасною школою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організаційно-розпорядчі (адміністративні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економічн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соціально-психологічн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правов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педагогічн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інноваційн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ідеологічні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технологічні тощо.</a:t>
            </a:r>
            <a:r>
              <a:rPr b="0" lang="uk-UA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отиви діяльності учасників освітнього процесу ґрунтуються на реальних матеріальних і духовних потреб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B!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Направленість методів характеризується тим, на які конкретно мотиви вони впливаю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5373e"/>
                </a:solidFill>
                <a:latin typeface="Times New Roman"/>
              </a:rPr>
              <a:t>Особливості управління сучасною школою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а підходів при оцінюванні діяльності шк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Демократизація  управл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а  кадрової  ситуації  в  школ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аріативність  управл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а  методологічних  засад  управл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а  методів  управлі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B</a:t>
            </a:r>
            <a:r>
              <a:rPr b="1" lang="uk-UA" sz="2400" spc="-1" strike="noStrike">
                <a:solidFill>
                  <a:srgbClr val="cc0000"/>
                </a:solidFill>
                <a:latin typeface="Times New Roman"/>
              </a:rPr>
              <a:t>!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 Головним  у  змісті  управлінської  діяльності  стає </a:t>
            </a:r>
            <a:r>
              <a:rPr b="1" lang="uk-UA" sz="2400" spc="-1" strike="noStrike">
                <a:solidFill>
                  <a:srgbClr val="ff0000"/>
                </a:solidFill>
                <a:latin typeface="Times New Roman"/>
              </a:rPr>
              <a:t> вироблення  цілісної системи  діяльності  школи</a:t>
            </a:r>
            <a:r>
              <a:rPr b="1" lang="uk-UA" sz="2400" spc="-1" strike="noStrike">
                <a:solidFill>
                  <a:srgbClr val="003300"/>
                </a:solidFill>
                <a:latin typeface="Times New Roman"/>
              </a:rPr>
              <a:t>,  яка  б  відповідала  вимогам  часу  і  створювала передумови для цілеспрямованого розвитку учасників освітнього процесу.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89280"/>
            <a:ext cx="82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Times New Roman"/>
              </a:rPr>
              <a:t>Кваліфікаці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(від англ. Quality - якість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визнана уповноваженим суб’єктом та засвідчена відповідним документом стандартизована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сукупніс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здобутих особою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тентносте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(результатів навчання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uk-UA" sz="2400" spc="-1" strike="noStrike">
                <a:solidFill>
                  <a:srgbClr val="000099"/>
                </a:solidFill>
                <a:latin typeface="Times New Roman"/>
              </a:rPr>
              <a:t>Компетентність</a:t>
            </a:r>
            <a:r>
              <a:rPr b="0" i="1" lang="uk-UA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- динамічна комбінація знань, умінь, навичок, способів мислення, поглядів, цінностей, інших особистих якостей, що визначає здатність особи успішно соціалізуватися, провадити професійну та/або подальшу навчальну діяльні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Times New Roman"/>
              </a:rPr>
              <a:t>Якість осві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відповідність результатів навчання вимогам, встановленим законодавством, відповідним стандартом освіти та/або договором про надання освітніх послу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99"/>
                </a:solidFill>
                <a:latin typeface="Times New Roman"/>
              </a:rPr>
              <a:t>Якість освітньої діяльн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- рівень організації, забезпечення та реалізації освітнього процесу, що забезпечує здобуття особами якісної освіти та відповідає вимогам, встановленим законодавством та/або договором про надання освітніх послуг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</a:rPr>
              <a:t>Головні складові компетентності керівників закладів освіти</a:t>
            </a:r>
            <a:br>
              <a:rPr sz="3200"/>
            </a:br>
            <a:r>
              <a:rPr b="0" lang="uk-UA" sz="3200" spc="-1" strike="noStrike" u="sng">
                <a:solidFill>
                  <a:srgbClr val="0000ff"/>
                </a:solidFill>
                <a:uFillTx/>
                <a:latin typeface="Times New Roman"/>
              </a:rPr>
              <a:t>(</a:t>
            </a:r>
            <a:r>
              <a:rPr b="1" lang="uk-UA" sz="2400" spc="-1" strike="noStrike">
                <a:solidFill>
                  <a:srgbClr val="0000ff"/>
                </a:solidFill>
                <a:latin typeface="Times New Roman"/>
              </a:rPr>
              <a:t>класифікатор професій ДК 003:2010, наказ Держкомстату України від 28.07.2010 р. № 327</a:t>
            </a:r>
            <a:r>
              <a:rPr b="0" lang="uk-UA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99736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00"/>
                </a:solidFill>
                <a:latin typeface="Times New Roman"/>
              </a:rPr>
              <a:t>Професійна компетентн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00"/>
                </a:solidFill>
                <a:latin typeface="Times New Roman"/>
              </a:rPr>
              <a:t>Інформаційна компетентн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Times New Roman"/>
              </a:rPr>
              <a:t>Комунікаційна компетентн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2c00a8"/>
                </a:solidFill>
                <a:latin typeface="Times New Roman"/>
              </a:rPr>
              <a:t>Правова компетентн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5T08:40:07Z</dcterms:created>
  <dc:creator>ktyf</dc:creator>
  <dc:description/>
  <dc:language>en-US</dc:language>
  <cp:lastModifiedBy>ktyf</cp:lastModifiedBy>
  <dcterms:modified xsi:type="dcterms:W3CDTF">2018-09-26T07:13:14Z</dcterms:modified>
  <cp:revision>12</cp:revision>
  <dc:subject/>
  <dc:title>Основні складові  управлінської компетентності директора закладу загальної середньої освіти в умовах реалізації концепції “Нова українська школа” </dc:title>
</cp:coreProperties>
</file>