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E020-C016-4E0F-ABBB-3A9B92D6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B58C-6709-4655-9E9A-0DD2F4F0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A2E-DB94-47A7-9C25-87913AE9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16C-F47E-475A-AF36-58C9D303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D54B-1176-448C-9F85-72EA02AE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4100-F064-41C0-A3A6-573484F5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E6E6-A71A-46DA-9F33-AD25063E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A4C6-DB62-4157-A382-0AFFE36E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5E72-BD05-4F98-807F-2EF54817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3CDE-6738-4CBD-BE87-0D2C9310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A574-ED41-48B7-B62B-6EBCC03A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21D-42C9-4BF0-8EAE-F28ACFDD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7EF4-9E2C-4A40-9A2F-08A3B0E3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2B0E-CC22-4B81-AF0E-6EE56643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A02-1DB4-4B82-BFD2-83BD166B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79FE-D777-4C53-AAC0-7C306AF6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6B4-F021-4139-B5FB-2161A29B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A1F-1469-49E5-B166-DA0FC4B5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8848-CD96-4F30-A335-70D4BAE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406-2397-4FBE-8BC9-6FB8B180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7D6-AFF0-4EFB-BF39-A4125596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E1A6-8A77-458D-BC50-14598E88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5FC-0A83-4FEC-92E4-09D3C3B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E639-43D6-4099-8D8C-7BF7C8C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custGeom>
            <a:avLst/>
            <a:gdLst/>
            <a:ahLst/>
            <a:rect l="l" t="t" r="r" b="b"/>
            <a:pathLst>
              <a:path w="5768" h="1008">
                <a:moveTo>
                  <a:pt x="0" y="0"/>
                </a:moveTo>
                <a:lnTo>
                  <a:pt x="0" y="688"/>
                </a:lnTo>
                <a:cubicBezTo>
                  <a:pt x="72" y="682"/>
                  <a:pt x="776" y="535"/>
                  <a:pt x="2008" y="492"/>
                </a:cubicBezTo>
                <a:cubicBezTo>
                  <a:pt x="3240" y="449"/>
                  <a:pt x="4792" y="608"/>
                  <a:pt x="5768" y="1008"/>
                </a:cubicBezTo>
                <a:lnTo>
                  <a:pt x="5768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custGeom>
            <a:avLst/>
            <a:gdLst/>
            <a:ahLst/>
            <a:rect l="l" t="t" r="r" b="b"/>
            <a:pathLst>
              <a:path w="5768" h="848">
                <a:moveTo>
                  <a:pt x="0" y="0"/>
                </a:moveTo>
                <a:lnTo>
                  <a:pt x="0" y="767"/>
                </a:lnTo>
                <a:cubicBezTo>
                  <a:pt x="72" y="760"/>
                  <a:pt x="879" y="496"/>
                  <a:pt x="2104" y="448"/>
                </a:cubicBezTo>
                <a:cubicBezTo>
                  <a:pt x="3330" y="401"/>
                  <a:pt x="4792" y="472"/>
                  <a:pt x="5768" y="848"/>
                </a:cubicBezTo>
                <a:lnTo>
                  <a:pt x="5760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4A7D-E2FF-48AF-B6C0-613D2A356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720"/>
            <a:chOff x="12240" y="692280"/>
            <a:chExt cx="9093600" cy="616572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711360"/>
              <a:ext cx="67694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711360"/>
              <a:ext cx="67694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711360"/>
              <a:ext cx="6420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711360"/>
              <a:ext cx="5378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711360"/>
              <a:ext cx="4399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711360"/>
              <a:ext cx="34131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711360"/>
              <a:ext cx="2544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711360"/>
              <a:ext cx="16808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711360"/>
              <a:ext cx="8114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711360"/>
              <a:ext cx="67694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711360"/>
              <a:ext cx="67694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711360"/>
              <a:ext cx="67694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711360"/>
              <a:ext cx="67694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733320"/>
              <a:ext cx="670140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711360"/>
              <a:ext cx="67694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711360"/>
              <a:ext cx="67694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711360"/>
              <a:ext cx="67694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711360"/>
              <a:ext cx="67694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711360"/>
              <a:ext cx="67694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711360"/>
              <a:ext cx="67694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71280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692280"/>
              <a:ext cx="232668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733320"/>
              <a:ext cx="230652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735120"/>
              <a:ext cx="19180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749160"/>
              <a:ext cx="12754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735120"/>
              <a:ext cx="6375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692280"/>
              <a:ext cx="232668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739800"/>
              <a:ext cx="228420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712800"/>
              <a:ext cx="232668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747720"/>
              <a:ext cx="226512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735120"/>
              <a:ext cx="231120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692280"/>
              <a:ext cx="232668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3274920"/>
              <a:ext cx="9092880" cy="1936440"/>
              <a:chOff x="12600" y="3274920"/>
              <a:chExt cx="9092880" cy="1936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5211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449640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840" y="3850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840" y="327492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27828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309400"/>
              <a:ext cx="909324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1876320"/>
              <a:ext cx="909324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153180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238400"/>
              <a:ext cx="909324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049400"/>
              <a:ext cx="909324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885600"/>
              <a:ext cx="909324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8269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76500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custGeom>
              <a:avLst/>
              <a:gdLst/>
              <a:ahLst/>
              <a:rect l="l" t="t" r="r" b="b"/>
              <a:pathLst>
                <a:path w="5768" h="1360">
                  <a:moveTo>
                    <a:pt x="0" y="0"/>
                  </a:moveTo>
                  <a:lnTo>
                    <a:pt x="0" y="616"/>
                  </a:lnTo>
                  <a:cubicBezTo>
                    <a:pt x="72" y="608"/>
                    <a:pt x="264" y="510"/>
                    <a:pt x="1496" y="460"/>
                  </a:cubicBezTo>
                  <a:cubicBezTo>
                    <a:pt x="2728" y="411"/>
                    <a:pt x="4632" y="672"/>
                    <a:pt x="5768" y="1360"/>
                  </a:cubicBezTo>
                  <a:lnTo>
                    <a:pt x="5768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240" y="0"/>
              <a:ext cx="9131400" cy="1752480"/>
            </a:xfrm>
            <a:custGeom>
              <a:avLst/>
              <a:gdLst/>
              <a:ahLst/>
              <a:rect l="l" t="t" r="r" b="b"/>
              <a:pathLst>
                <a:path w="5761" h="1104">
                  <a:moveTo>
                    <a:pt x="0" y="0"/>
                  </a:moveTo>
                  <a:lnTo>
                    <a:pt x="0" y="632"/>
                  </a:lnTo>
                  <a:cubicBezTo>
                    <a:pt x="72" y="625"/>
                    <a:pt x="401" y="504"/>
                    <a:pt x="1521" y="448"/>
                  </a:cubicBezTo>
                  <a:cubicBezTo>
                    <a:pt x="2641" y="392"/>
                    <a:pt x="4505" y="504"/>
                    <a:pt x="5761" y="1104"/>
                  </a:cubicBezTo>
                  <a:lnTo>
                    <a:pt x="576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B7AF-2638-4A53-BAC0-17EE55606D59}" type="slidenum">
              <a:rPr b="0" lang="en-US" sz="1200" spc="-1" strike="noStrike">
                <a:solidFill>
                  <a:srgbClr val="33533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dodatok1.doc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3;&#1103;%20&#1089;&#1077;&#1084;&#1110;&#1085;&#1072;&#1088;&#1091;.%20&#1044;&#1080;&#1088;&#1077;&#1082;&#1090;&#1086;&#1088;&#1080;/pok_npaop_red_2018_01_15.pdf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9280" y="1700280"/>
            <a:ext cx="6840720" cy="2233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5338"/>
                </a:solidFill>
                <a:latin typeface="Verdana"/>
              </a:rPr>
              <a:t>Нові підходи до організації безпечної життєдіяльності ЗЗСО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0560" y="5300640"/>
            <a:ext cx="70866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Астахова Марія Сергіївна, старший викладач кафедри соціально-гуманітарної освіти,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к.пед.н.</a:t>
            </a:r>
            <a:endParaRPr b="0" lang="en-US" sz="20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Нормативно-правова база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Лист МОНУ «Про використання </a:t>
            </a:r>
            <a:r>
              <a:rPr b="0" lang="uk-UA" sz="2800" spc="-1" strike="noStrike">
                <a:solidFill>
                  <a:srgbClr val="335338"/>
                </a:solidFill>
                <a:latin typeface="Verdana"/>
              </a:rPr>
              <a:t>Інструктивно-методичних матеріалів з питань охорони праці, безпеки життєдіяльності у навчально-виховному процесі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» в</a:t>
            </a:r>
            <a:r>
              <a:rPr b="0" lang="uk-UA" sz="2800" spc="-1" strike="noStrike">
                <a:solidFill>
                  <a:srgbClr val="335338"/>
                </a:solidFill>
                <a:latin typeface="Verdana"/>
              </a:rPr>
              <a:t>ід </a:t>
            </a:r>
            <a:r>
              <a:rPr b="0" lang="en-US" sz="2800" spc="-1" strike="noStrike" u="sng">
                <a:solidFill>
                  <a:srgbClr val="335338"/>
                </a:solidFill>
                <a:uFillTx/>
                <a:latin typeface="Verdana"/>
              </a:rPr>
              <a:t>26</a:t>
            </a:r>
            <a:r>
              <a:rPr b="0" lang="uk-UA" sz="2800" spc="-1" strike="noStrike" u="sng">
                <a:solidFill>
                  <a:srgbClr val="335338"/>
                </a:solidFill>
                <a:uFillTx/>
                <a:latin typeface="Verdana"/>
              </a:rPr>
              <a:t>.</a:t>
            </a: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04.13</a:t>
            </a:r>
            <a:r>
              <a:rPr b="0" lang="uk-UA" sz="2800" spc="-1" strike="noStrike">
                <a:solidFill>
                  <a:srgbClr val="335338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5338"/>
                </a:solidFill>
                <a:latin typeface="Verdana"/>
              </a:rPr>
              <a:t>   №  </a:t>
            </a:r>
            <a:r>
              <a:rPr b="0" lang="ru-RU" sz="2800" spc="-1" strike="noStrike" u="sng">
                <a:solidFill>
                  <a:srgbClr val="335338"/>
                </a:solidFill>
                <a:uFillTx/>
                <a:latin typeface="Verdana"/>
              </a:rPr>
              <a:t>1/9-</a:t>
            </a:r>
            <a:r>
              <a:rPr b="0" lang="en-US" sz="2800" spc="-1" strike="noStrike" u="sng">
                <a:solidFill>
                  <a:srgbClr val="335338"/>
                </a:solidFill>
                <a:uFillTx/>
                <a:latin typeface="Verdana"/>
              </a:rPr>
              <a:t>305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8463"/>
                </a:solidFill>
                <a:uFillTx/>
                <a:latin typeface="Verdana"/>
                <a:hlinkClick r:id="rId1"/>
              </a:rPr>
              <a:t>Dodatok1.doc</a:t>
            </a:r>
            <a:endParaRPr b="0" lang="en-US" sz="16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5338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335338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ан</a:t>
            </a: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ітарно-гігієнічне забезпечення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5338"/>
                </a:solidFill>
                <a:latin typeface="Times New Roman"/>
              </a:rPr>
              <a:t>ДСанПіН 5.2.2.008-01 </a:t>
            </a:r>
            <a:r>
              <a:rPr b="0" lang="ru-RU" sz="2400" spc="-1" strike="noStrike">
                <a:solidFill>
                  <a:srgbClr val="335338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335338"/>
                </a:solidFill>
                <a:latin typeface="Times New Roman"/>
              </a:rPr>
              <a:t>Утримання загальноосвітніх навчальних закладів та організації навчально-виховного процесу</a:t>
            </a:r>
            <a:r>
              <a:rPr b="0" lang="ru-RU" sz="2400" spc="-1" strike="noStrike">
                <a:solidFill>
                  <a:srgbClr val="335338"/>
                </a:solidFill>
                <a:latin typeface="Times New Roman"/>
              </a:rPr>
              <a:t>»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5338"/>
                </a:solidFill>
                <a:latin typeface="Verdana"/>
              </a:rPr>
              <a:t>Громадське обговорення «САНІТАРНОГО РЕГЛАМЕНТУ ДЛЯ ЗАКЛАДІВ ЗАГАЛЬНОЇ СЕРЕДНЬОЇ ОСВІТИ»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5338"/>
                </a:solidFill>
                <a:latin typeface="Times New Roman"/>
              </a:rPr>
              <a:t>ДСанПіН 5.5.6.009-98 </a:t>
            </a:r>
            <a:r>
              <a:rPr b="0" lang="ru-RU" sz="2400" spc="-1" strike="noStrike">
                <a:solidFill>
                  <a:srgbClr val="335338"/>
                </a:solidFill>
                <a:latin typeface="Times New Roman"/>
              </a:rPr>
              <a:t>«</a:t>
            </a:r>
            <a:r>
              <a:rPr b="0" lang="uk-UA" sz="2400" spc="-1" strike="noStrike">
                <a:solidFill>
                  <a:srgbClr val="335338"/>
                </a:solidFill>
                <a:latin typeface="Times New Roman"/>
              </a:rPr>
              <a:t>Влаштування та обладнання кабінетів комп'ютерної техніки та режими праці учнів на ПК</a:t>
            </a:r>
            <a:r>
              <a:rPr b="0" lang="ru-RU" sz="2400" spc="-1" strike="noStrike">
                <a:solidFill>
                  <a:srgbClr val="335338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Times New Roman"/>
              </a:rPr>
              <a:t>В</a:t>
            </a:r>
            <a:r>
              <a:rPr b="1" lang="uk-UA" sz="2400" spc="-1" strike="noStrike">
                <a:solidFill>
                  <a:srgbClr val="335338"/>
                </a:solidFill>
                <a:latin typeface="Times New Roman"/>
              </a:rPr>
              <a:t>ідмінено, наказ МОЗ України 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5338"/>
                </a:solidFill>
                <a:latin typeface="Times New Roman"/>
              </a:rPr>
              <a:t>№ </a:t>
            </a:r>
            <a:r>
              <a:rPr b="1" lang="uk-UA" sz="2400" spc="-1" strike="noStrike">
                <a:solidFill>
                  <a:srgbClr val="335338"/>
                </a:solidFill>
                <a:latin typeface="Times New Roman"/>
              </a:rPr>
              <a:t>709 від 26.06.2017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1295280" y="4648320"/>
            <a:ext cx="6934320" cy="1371600"/>
          </a:xfrm>
          <a:prstGeom prst="line">
            <a:avLst/>
          </a:prstGeom>
          <a:ln w="3168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1295280" y="4495680"/>
            <a:ext cx="6172200" cy="1524240"/>
          </a:xfrm>
          <a:prstGeom prst="line">
            <a:avLst/>
          </a:prstGeom>
          <a:ln w="3168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3"/>
          <p:cNvSpPr/>
          <p:nvPr/>
        </p:nvSpPr>
        <p:spPr>
          <a:xfrm>
            <a:off x="1763640" y="1413000"/>
            <a:ext cx="6228000" cy="5216400"/>
          </a:xfrm>
          <a:prstGeom prst="rightArrow">
            <a:avLst>
              <a:gd name="adj1" fmla="val 79306"/>
              <a:gd name="adj2" fmla="val 29572"/>
            </a:avLst>
          </a:prstGeom>
          <a:gradFill rotWithShape="0">
            <a:gsLst>
              <a:gs pos="0">
                <a:srgbClr val="d7e4be"/>
              </a:gs>
              <a:gs pos="100000">
                <a:srgbClr val="2f86b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179280" y="1341360"/>
            <a:ext cx="5977080" cy="151128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«Деякі питання розслідування та обліку нещасних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випадків, професійних захворювань і аварій на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виробництві»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(Постанова Кабінету Міністрів України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від </a:t>
            </a: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30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11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.20</a:t>
            </a: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11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 р. № 1</a:t>
            </a: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23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179280" y="3213000"/>
            <a:ext cx="6048360" cy="1440000"/>
          </a:xfrm>
          <a:prstGeom prst="roundRect">
            <a:avLst>
              <a:gd name="adj" fmla="val 9106"/>
            </a:avLst>
          </a:prstGeom>
          <a:solidFill>
            <a:srgbClr val="cc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«Положення про розслідування та облік нещасних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випадків невиробничого характеру»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20202"/>
                </a:solidFill>
                <a:latin typeface="Arial"/>
              </a:rPr>
              <a:t>П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останова Кабінету Міністрів України від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22.03.2001 р. № 270)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79280" y="4941720"/>
            <a:ext cx="6048360" cy="165600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«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Положення про порядок розслідування нещасних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випадків, що стались під час навчально-виховного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процесу в навчальних закладах»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(наказ МОНУ від 31.08. 2001 р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№ </a:t>
            </a:r>
            <a:r>
              <a:rPr b="1" lang="ru-RU" sz="1800" spc="-1" strike="noStrike">
                <a:solidFill>
                  <a:srgbClr val="020202"/>
                </a:solidFill>
                <a:latin typeface="Arial"/>
              </a:rPr>
              <a:t>616, зм</a:t>
            </a:r>
            <a:r>
              <a:rPr b="1" lang="uk-UA" sz="1800" spc="-1" strike="noStrike">
                <a:solidFill>
                  <a:srgbClr val="020202"/>
                </a:solidFill>
                <a:latin typeface="Arial"/>
              </a:rPr>
              <a:t>іни 2013 р.)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84360" y="1700280"/>
            <a:ext cx="29163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60a07"/>
                </a:solidFill>
                <a:latin typeface="Verdana"/>
              </a:rPr>
              <a:t>Виробничий травматизм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6227640" y="3573360"/>
            <a:ext cx="291636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60a07"/>
                </a:solidFill>
                <a:latin typeface="Verdana"/>
              </a:rPr>
              <a:t>Невиробничий травматизм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6227640" y="5229360"/>
            <a:ext cx="2916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60a07"/>
                </a:solidFill>
                <a:latin typeface="Verdana"/>
              </a:rPr>
              <a:t>Травматизм</a:t>
            </a:r>
            <a:br>
              <a:rPr sz="1800"/>
            </a:br>
            <a:r>
              <a:rPr b="1" lang="ru-RU" sz="1800" spc="-1" strike="noStrike">
                <a:solidFill>
                  <a:srgbClr val="060a07"/>
                </a:solidFill>
                <a:latin typeface="Verdana"/>
              </a:rPr>
              <a:t>під час освітнього процесу</a:t>
            </a:r>
            <a:br>
              <a:rPr sz="1800"/>
            </a:br>
            <a:r>
              <a:rPr b="1" lang="uk-UA" sz="1800" spc="-1" strike="noStrike">
                <a:solidFill>
                  <a:srgbClr val="060a07"/>
                </a:solidFill>
                <a:latin typeface="Verdana"/>
              </a:rPr>
              <a:t>з учнями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9360">
            <a:solidFill>
              <a:srgbClr val="02020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Навчання та перевірка знань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5338"/>
                </a:solidFill>
                <a:latin typeface="Verdana"/>
              </a:rPr>
              <a:t>Положення про проведення навчання та перевірки знань з питань охорони праці у навчальних закладах, наказ МОНУ від 18.04.2006 № 304, зі змінами (у редакції наказу Міністерства освіти </a:t>
            </a:r>
            <a:r>
              <a:rPr b="0" lang="ru-RU" sz="24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335338"/>
                </a:solidFill>
                <a:latin typeface="Verdana"/>
              </a:rPr>
              <a:t>і науки України </a:t>
            </a:r>
            <a:r>
              <a:rPr b="0" lang="ru-RU" sz="2400" spc="-1" strike="noStrike">
                <a:solidFill>
                  <a:srgbClr val="335338"/>
                </a:solidFill>
                <a:latin typeface="Verdana"/>
              </a:rPr>
              <a:t> </a:t>
            </a:r>
            <a:r>
              <a:rPr b="0" lang="uk-UA" sz="2400" spc="-1" strike="noStrike">
                <a:solidFill>
                  <a:srgbClr val="335338"/>
                </a:solidFill>
                <a:latin typeface="Verdana"/>
              </a:rPr>
              <a:t>22.11.2017 № 1514);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5338"/>
                </a:solidFill>
                <a:latin typeface="Verdana"/>
              </a:rPr>
              <a:t>Лист МОНУ “Про використання Методичних матеріалів щодо організації навчання та перевірки знань з питань охорони праці, БЖД” від 16.06.2014 № 1/9-319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Нормативне забезпечення навчальних предметів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457200" y="1523880"/>
          <a:ext cx="8229600" cy="4953240"/>
        </p:xfrm>
        <a:graphic>
          <a:graphicData uri="http://schemas.openxmlformats.org/drawingml/2006/table">
            <a:tbl>
              <a:tblPr/>
              <a:tblGrid>
                <a:gridCol w="1444680"/>
                <a:gridCol w="678492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Навчальний предмет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Нормативно-правова база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Фізика, хімія, біологія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33533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Лист МОНмолодьспортУ № 1/9-72 від 01.02.12 «Про інструктивно-методичні матеріали «Безпечне проведення занять у кабінетах природничо-математичного напряму загальноосвітніх навчальних закладах»;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33533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Наказ МНС України від  16.07.2012  № 992 «Про затвердження Правил безпеки під час проведення навчально-виховного процесу в кабінетах (лабораторіях) фізики та хімії загальноосвітніх навчальних закладів»;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33533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Лист МОНУ </a:t>
                      </a:r>
                      <a:r>
                        <a:rPr b="0" lang="ru-RU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від</a:t>
                      </a: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7.07.2013</a:t>
                      </a: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№1/9-498 </a:t>
                      </a: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Про використання </a:t>
                      </a: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Інструктивно-методичних матеріалів з питань розроблення інструкцій з безпеки </a:t>
                      </a:r>
                      <a:r>
                        <a:rPr b="0" lang="ru-RU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проведення</a:t>
                      </a: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 навчально-виховного процесу в кабінетах природничо-математичного напряму»</a:t>
                      </a:r>
                      <a:r>
                        <a:rPr b="0" lang="ru-RU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indent="228600" algn="just">
                        <a:lnSpc>
                          <a:spcPct val="100000"/>
                        </a:lnSpc>
                        <a:buClr>
                          <a:srgbClr val="335338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Наказ МОНмолодьспортУ № 1085 від 15.11.10 «Про затвердження Правил безпеки під час проведення навчання з біології в загальноосвітніх навчальних закладах».  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85720" y="209160"/>
            <a:ext cx="7391160" cy="4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Verdana"/>
              </a:rPr>
              <a:t>Нормативне забезпечення навчальних предметів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0880" y="1447920"/>
          <a:ext cx="8229600" cy="4438440"/>
        </p:xfrm>
        <a:graphic>
          <a:graphicData uri="http://schemas.openxmlformats.org/drawingml/2006/table">
            <a:tbl>
              <a:tblPr/>
              <a:tblGrid>
                <a:gridCol w="1444680"/>
                <a:gridCol w="678492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Інформатика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35000" algn="just">
                        <a:lnSpc>
                          <a:spcPct val="100000"/>
                        </a:lnSpc>
                        <a:buClr>
                          <a:srgbClr val="33533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Правила безпеки під час навчання в кабінетах інформатики, затверджені Наказом Держнаглядохоронпраці від 16.03.2004 № 81.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marL="343080" indent="-135000" algn="just">
                        <a:lnSpc>
                          <a:spcPct val="100000"/>
                        </a:lnSpc>
                        <a:buClr>
                          <a:srgbClr val="335338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Лист Міністерства освіти і науки України </a:t>
                      </a:r>
                      <a:br>
                        <a:rPr sz="1400"/>
                      </a:b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від 17.07.2013 № 1/9-497 “Про використання Інструктивно-методичних матеріалів з питань створення безпечних умов для роботи у кабінетах інформатики та інформаційно-комунікаційних технологій загальноосвітніх навчальних закладів”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Вчителі фізичної культури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Правила безпеки під час проведення занять з фізичної культури і спорту в ЗНЗ, затверджені наказом МОНУ №521 від 01.06.2010 р.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Вчителі технічної праці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Правила безпеки під час занять у навчальних і навчально-виробничих майстернях навчальних закладів системи ЗСО, затверджені наказом МОНУ №730 від 13.08.2007 р.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Вихователі групи подовженого дня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Лист МОНУ від 18.07.2013 року № 1/9-503 “Про використання Інструктивно-методичних матеріалів з питань створення безпечних умов організації навчально-виховного процесу в групі продовженого дня загальноосвітнього навчального закладу” 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Шкільні бібліотекарі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Наказ МНС “Про затвердження Правил охорони праці для працівників бібліотек” від 12.12.2012  № 1398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5625-1348-4B57-BDAD-2C1DCAFA07DB}" type="slidenum">
              <a:rPr b="0" lang="ru-RU" sz="1200" spc="-1" strike="noStrike">
                <a:solidFill>
                  <a:srgbClr val="335338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Комплекс бесід (занять)</a:t>
            </a:r>
            <a:br>
              <a:rPr sz="1600"/>
            </a:b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із попередження дитячого травматизму в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-11 класах</a:t>
            </a:r>
            <a:r>
              <a:rPr b="0" lang="ru-RU" sz="1600" spc="-1" strike="noStrike">
                <a:solidFill>
                  <a:srgbClr val="cc3300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B90D-4E31-493D-9731-85EF8AC2B814}" type="slidenum">
              <a:rPr b="0" lang="ru-RU" sz="1200" spc="-1" strike="noStrike">
                <a:solidFill>
                  <a:srgbClr val="335338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335338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0" y="1125360"/>
          <a:ext cx="8820000" cy="5931000"/>
        </p:xfrm>
        <a:graphic>
          <a:graphicData uri="http://schemas.openxmlformats.org/drawingml/2006/table">
            <a:tbl>
              <a:tblPr/>
              <a:tblGrid>
                <a:gridCol w="258840"/>
                <a:gridCol w="325440"/>
                <a:gridCol w="3717720"/>
                <a:gridCol w="552600"/>
                <a:gridCol w="361800"/>
                <a:gridCol w="473040"/>
                <a:gridCol w="449280"/>
                <a:gridCol w="424080"/>
                <a:gridCol w="452520"/>
                <a:gridCol w="507960"/>
                <a:gridCol w="457200"/>
                <a:gridCol w="399960"/>
                <a:gridCol w="439560"/>
              </a:tblGrid>
              <a:tr h="295560">
                <a:tc rowSpan="11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Зміст бесід (занять)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 gridSpan="10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Місяць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Arial"/>
                        </a:rPr>
                        <a:t>Кіл.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Arial"/>
                        </a:rPr>
                        <a:t>год.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Кількість годин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ctr" pos="29685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Правила дорожнього руху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28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Правила протипожежної безпеки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Запобігання отруєнням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Правила безпеки при користуванні газом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Правила безпеки з вибухонебезпечними предметами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35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Правила безпеки на воді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Правила безпеки користування електроприладами, при поводженні</a:t>
                      </a:r>
                      <a:br>
                        <a:rPr sz="1400"/>
                      </a:br>
                      <a:r>
                        <a:rPr b="1" lang="uk-UA" sz="14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 з джерелами електроструму</a:t>
                      </a:r>
                      <a:endParaRPr b="0" lang="en-US" sz="14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Разом годин</a:t>
                      </a:r>
                      <a:r>
                        <a:rPr b="1" lang="en-US" sz="1600" spc="-1" strike="noStrike">
                          <a:solidFill>
                            <a:srgbClr val="335338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6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</a:tr>
              <a:tr h="833040">
                <a:tc gridSpan="1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</a:rPr>
                        <a:t>Посібник: Система роботи з безпеки життєдіяльності в загальноосвітньому навчальному закладі. </a:t>
                      </a:r>
                      <a:r>
                        <a:rPr b="1" lang="ru-RU" sz="1200" spc="-1" strike="noStrike">
                          <a:solidFill>
                            <a:srgbClr val="335338"/>
                          </a:solidFill>
                          <a:latin typeface="Arial"/>
                        </a:rPr>
                        <a:t>Збірник нормативних  і методичних матеріалів. – Харків: ХОНМІБО, 2005. – 44 с.</a:t>
                      </a:r>
                      <a:r>
                        <a:rPr b="1" lang="uk-UA" sz="1200" spc="-1" strike="noStrike">
                          <a:solidFill>
                            <a:srgbClr val="335338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338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23880" y="537660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0705"/>
                </a:solidFill>
                <a:latin typeface="Verdana"/>
              </a:rPr>
              <a:t>asmarta01@gmail.com</a:t>
            </a:r>
            <a:endParaRPr b="0" lang="en-US" sz="1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297" name="WordArt 3"/>
          <p:cNvSpPr txBox="1"/>
          <p:nvPr/>
        </p:nvSpPr>
        <p:spPr>
          <a:xfrm>
            <a:off x="1476360" y="1773360"/>
            <a:ext cx="48020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368463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Дякую за увагу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368463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Verdana"/>
              </a:rPr>
              <a:t>Профільні установи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229600" cy="936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rcRect l="0" t="20610" r="0" b="0"/>
          <a:stretch/>
        </p:blipFill>
        <p:spPr>
          <a:xfrm>
            <a:off x="1763640" y="620640"/>
            <a:ext cx="4740480" cy="15130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50920" y="5745240"/>
            <a:ext cx="2209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5338"/>
                </a:solidFill>
                <a:latin typeface="Tahoma"/>
              </a:rPr>
              <a:t>Держсанеп</a:t>
            </a:r>
            <a:r>
              <a:rPr b="1" i="1" lang="uk-UA" sz="1800" spc="-1" strike="noStrike">
                <a:solidFill>
                  <a:srgbClr val="335338"/>
                </a:solidFill>
                <a:latin typeface="Tahoma"/>
              </a:rPr>
              <a:t>ідслужба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2916360" y="6032520"/>
            <a:ext cx="609480" cy="228600"/>
          </a:xfrm>
          <a:custGeom>
            <a:avLst/>
            <a:gdLst>
              <a:gd name="textAreaLeft" fmla="*/ 0 w 609480"/>
              <a:gd name="textAreaRight" fmla="*/ 609840 w 6094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f86b1"/>
          </a:solidFill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3"/>
          <a:stretch/>
        </p:blipFill>
        <p:spPr>
          <a:xfrm>
            <a:off x="3635280" y="5384880"/>
            <a:ext cx="5210280" cy="14288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"/>
          <p:cNvPicPr/>
          <p:nvPr/>
        </p:nvPicPr>
        <p:blipFill>
          <a:blip r:embed="rId4"/>
          <a:srcRect l="9247" t="18820" r="12500" b="37267"/>
          <a:stretch/>
        </p:blipFill>
        <p:spPr>
          <a:xfrm>
            <a:off x="179280" y="3213000"/>
            <a:ext cx="8498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Кодекс цивільного захисту України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338"/>
                </a:solidFill>
                <a:latin typeface="Arial"/>
              </a:rPr>
              <a:t>Стаття 41</a:t>
            </a:r>
            <a:r>
              <a:rPr b="0" lang="ru-RU" sz="2400" spc="-1" strike="noStrike">
                <a:solidFill>
                  <a:srgbClr val="335338"/>
                </a:solidFill>
                <a:latin typeface="Arial"/>
              </a:rPr>
              <a:t>. Формування культури безпеки життєдіяльності населення. Навчання учнів, студентів та дітей дошкільного віку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5338"/>
                </a:solidFill>
                <a:uFillTx/>
                <a:latin typeface="Arial"/>
              </a:rPr>
              <a:t>Культура безпеки життєдіяльності населення</a:t>
            </a:r>
            <a:r>
              <a:rPr b="0" lang="ru-RU" sz="2400" spc="-1" strike="noStrike">
                <a:solidFill>
                  <a:srgbClr val="335338"/>
                </a:solidFill>
                <a:latin typeface="Arial"/>
              </a:rPr>
              <a:t> - це сукупність цінностей, стандартів, моральних норм і норм поведінки, спрямованих на підтримання самодисципліни як способу підвищення рівня безпеки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85720" y="128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28 кв</a:t>
            </a: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ітня – Всесвітній день охорони праці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rcRect l="4857" t="9292" r="7275" b="3892"/>
          <a:stretch/>
        </p:blipFill>
        <p:spPr>
          <a:xfrm>
            <a:off x="0" y="893880"/>
            <a:ext cx="9144000" cy="57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Organization Chart 69"/>
          <p:cNvGrpSpPr/>
          <p:nvPr/>
        </p:nvGrpSpPr>
        <p:grpSpPr>
          <a:xfrm>
            <a:off x="1306080" y="152280"/>
            <a:ext cx="6249240" cy="5941800"/>
            <a:chOff x="1306080" y="152280"/>
            <a:chExt cx="6249240" cy="5941800"/>
          </a:xfrm>
        </p:grpSpPr>
        <p:cxnSp>
          <p:nvCxnSpPr>
            <p:cNvPr id="208" name="_s1028"/>
            <p:cNvCxnSpPr>
              <a:stCxn id="209" idx="1"/>
              <a:endCxn id="210" idx="2"/>
            </p:cNvCxnSpPr>
            <p:nvPr/>
          </p:nvCxnSpPr>
          <p:spPr>
            <a:xfrm rot="10800000">
              <a:off x="4372560" y="877320"/>
              <a:ext cx="501120" cy="399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1029"/>
            <p:cNvCxnSpPr>
              <a:stCxn id="212" idx="1"/>
              <a:endCxn id="210" idx="2"/>
            </p:cNvCxnSpPr>
            <p:nvPr/>
          </p:nvCxnSpPr>
          <p:spPr>
            <a:xfrm rot="10800000">
              <a:off x="4372560" y="877320"/>
              <a:ext cx="765360" cy="3242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1030"/>
            <p:cNvCxnSpPr>
              <a:stCxn id="214" idx="1"/>
              <a:endCxn id="210" idx="2"/>
            </p:cNvCxnSpPr>
            <p:nvPr/>
          </p:nvCxnSpPr>
          <p:spPr>
            <a:xfrm rot="10800000">
              <a:off x="4372560" y="877320"/>
              <a:ext cx="785160" cy="1134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031"/>
            <p:cNvCxnSpPr>
              <a:stCxn id="216" idx="1"/>
            </p:cNvCxnSpPr>
            <p:nvPr/>
          </p:nvCxnSpPr>
          <p:spPr>
            <a:xfrm flipH="1" rot="10800000">
              <a:off x="1588680" y="781560"/>
              <a:ext cx="2771280" cy="1084680"/>
            </a:xfrm>
            <a:prstGeom prst="bentConnector3">
              <a:avLst>
                <a:gd name="adj1" fmla="val -51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32"/>
            <p:cNvCxnSpPr>
              <a:stCxn id="218" idx="1"/>
              <a:endCxn id="210" idx="2"/>
            </p:cNvCxnSpPr>
            <p:nvPr/>
          </p:nvCxnSpPr>
          <p:spPr>
            <a:xfrm rot="10800000">
              <a:off x="4372560" y="878040"/>
              <a:ext cx="785160" cy="526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1033"/>
            <p:cNvSpPr/>
            <p:nvPr/>
          </p:nvSpPr>
          <p:spPr>
            <a:xfrm>
              <a:off x="1447920" y="152280"/>
              <a:ext cx="5851080" cy="7257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Tahoma"/>
                </a:rPr>
                <a:t>Безпека життєдіяльності</a:t>
              </a:r>
              <a:endParaRPr b="0" lang="en-US" sz="19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900" spc="-1" strike="noStrike">
                  <a:solidFill>
                    <a:srgbClr val="000000"/>
                  </a:solidFill>
                  <a:latin typeface="Tahoma"/>
                </a:rPr>
                <a:t>та охорона праці</a:t>
              </a:r>
              <a:endParaRPr b="0" lang="en-US" sz="19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8" name="_s1034"/>
            <p:cNvSpPr/>
            <p:nvPr/>
          </p:nvSpPr>
          <p:spPr>
            <a:xfrm>
              <a:off x="5158080" y="1230840"/>
              <a:ext cx="2222280" cy="34740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700" spc="-1" strike="noStrike">
                  <a:solidFill>
                    <a:srgbClr val="335338"/>
                  </a:solidFill>
                  <a:latin typeface="Times New Roman"/>
                </a:rPr>
                <a:t>Пожежна безпека</a:t>
              </a:r>
              <a:endParaRPr b="0" lang="en-US" sz="17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6" name="_s1035"/>
            <p:cNvSpPr/>
            <p:nvPr/>
          </p:nvSpPr>
          <p:spPr>
            <a:xfrm>
              <a:off x="1589040" y="1293840"/>
              <a:ext cx="2559960" cy="1144440"/>
            </a:xfrm>
            <a:prstGeom prst="roundRect">
              <a:avLst>
                <a:gd name="adj" fmla="val 16653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Охорона 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здоров’я, дитинства, навколишнього середовища та ін.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4" name="_s1036"/>
            <p:cNvSpPr/>
            <p:nvPr/>
          </p:nvSpPr>
          <p:spPr>
            <a:xfrm>
              <a:off x="5158080" y="1830600"/>
              <a:ext cx="2268360" cy="36072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700" spc="-1" strike="noStrike">
                  <a:solidFill>
                    <a:srgbClr val="335338"/>
                  </a:solidFill>
                  <a:latin typeface="Times New Roman"/>
                </a:rPr>
                <a:t>Електробезпека</a:t>
              </a:r>
              <a:endParaRPr b="0" lang="en-US" sz="17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5138280" y="3878280"/>
              <a:ext cx="2417040" cy="48132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Вибухонебезпека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9" name="_s1038"/>
            <p:cNvSpPr/>
            <p:nvPr/>
          </p:nvSpPr>
          <p:spPr>
            <a:xfrm>
              <a:off x="4874040" y="4571640"/>
              <a:ext cx="2559960" cy="59976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700" spc="-1" strike="noStrike">
                  <a:solidFill>
                    <a:srgbClr val="000000"/>
                  </a:solidFill>
                  <a:latin typeface="Times New Roman"/>
                </a:rPr>
                <a:t>Дорожній рух, безпека на воді та ін.</a:t>
              </a:r>
              <a:endParaRPr b="0" lang="en-US" sz="17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9" name="AutoShape 15"/>
            <p:cNvSpPr/>
            <p:nvPr/>
          </p:nvSpPr>
          <p:spPr>
            <a:xfrm>
              <a:off x="5138280" y="2436120"/>
              <a:ext cx="2268360" cy="60228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335338"/>
                  </a:solidFill>
                  <a:latin typeface="Times New Roman"/>
                </a:rPr>
                <a:t>Санітарія та гігієна 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335338"/>
                  </a:solidFill>
                  <a:latin typeface="Times New Roman"/>
                </a:rPr>
                <a:t>праці та навчання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0" name="AutoShape 16"/>
            <p:cNvSpPr/>
            <p:nvPr/>
          </p:nvSpPr>
          <p:spPr>
            <a:xfrm>
              <a:off x="5158080" y="3273120"/>
              <a:ext cx="2268360" cy="481320"/>
            </a:xfrm>
            <a:prstGeom prst="roundRect">
              <a:avLst>
                <a:gd name="adj" fmla="val 16667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335338"/>
                  </a:solidFill>
                  <a:latin typeface="Times New Roman"/>
                </a:rPr>
                <a:t>Цивільний захист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221" name="AutoShape 31"/>
            <p:cNvCxnSpPr/>
            <p:nvPr/>
          </p:nvCxnSpPr>
          <p:spPr>
            <a:xfrm flipH="1" rot="10800000">
              <a:off x="1447560" y="1835280"/>
              <a:ext cx="2912400" cy="1677600"/>
            </a:xfrm>
            <a:prstGeom prst="bentConnector4">
              <a:avLst>
                <a:gd name="adj1" fmla="val -4870"/>
                <a:gd name="adj2" fmla="val 48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2" name="_s1061"/>
            <p:cNvSpPr/>
            <p:nvPr/>
          </p:nvSpPr>
          <p:spPr>
            <a:xfrm>
              <a:off x="1447920" y="2917800"/>
              <a:ext cx="2701440" cy="960480"/>
            </a:xfrm>
            <a:prstGeom prst="roundRect">
              <a:avLst>
                <a:gd name="adj" fmla="val 16653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</a:rPr>
                <a:t>Профілактика травматизму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</a:rPr>
                <a:t>(виробничого,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</a:rPr>
                <a:t>побутового, під час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</a:rPr>
                <a:t>освітнього процесу)</a:t>
              </a:r>
              <a:r>
                <a:rPr b="0" lang="uk-UA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223" name="_s1072"/>
            <p:cNvCxnSpPr/>
            <p:nvPr/>
          </p:nvCxnSpPr>
          <p:spPr>
            <a:xfrm>
              <a:off x="4427280" y="3517200"/>
              <a:ext cx="705240" cy="3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4" name="_s1072"/>
            <p:cNvCxnSpPr/>
            <p:nvPr/>
          </p:nvCxnSpPr>
          <p:spPr>
            <a:xfrm>
              <a:off x="4427280" y="2675880"/>
              <a:ext cx="705240" cy="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AutoShape 35"/>
            <p:cNvCxnSpPr/>
            <p:nvPr/>
          </p:nvCxnSpPr>
          <p:spPr>
            <a:xfrm flipH="1" rot="10800000">
              <a:off x="1447560" y="3038040"/>
              <a:ext cx="2912400" cy="1676880"/>
            </a:xfrm>
            <a:prstGeom prst="bentConnector4">
              <a:avLst>
                <a:gd name="adj1" fmla="val -4870"/>
                <a:gd name="adj2" fmla="val 48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6" name="_s1061"/>
            <p:cNvSpPr/>
            <p:nvPr/>
          </p:nvSpPr>
          <p:spPr>
            <a:xfrm>
              <a:off x="1447920" y="4239000"/>
              <a:ext cx="2701440" cy="842040"/>
            </a:xfrm>
            <a:prstGeom prst="roundRect">
              <a:avLst>
                <a:gd name="adj" fmla="val 16653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Надання першої 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долікарської допомоги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227" name="AutoShape 37"/>
            <p:cNvCxnSpPr>
              <a:stCxn id="228" idx="1"/>
            </p:cNvCxnSpPr>
            <p:nvPr/>
          </p:nvCxnSpPr>
          <p:spPr>
            <a:xfrm rot="10800000">
              <a:off x="4358880" y="4517640"/>
              <a:ext cx="210960" cy="1233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8" name="_s1061"/>
            <p:cNvSpPr/>
            <p:nvPr/>
          </p:nvSpPr>
          <p:spPr>
            <a:xfrm>
              <a:off x="4569840" y="5408640"/>
              <a:ext cx="2701440" cy="685440"/>
            </a:xfrm>
            <a:prstGeom prst="roundRect">
              <a:avLst>
                <a:gd name="adj" fmla="val 16653"/>
              </a:avLst>
            </a:pr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Дії у надзвичайних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Times New Roman"/>
                </a:rPr>
                <a:t>ситуаціях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ормативно-правова база: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61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20202"/>
                </a:solidFill>
                <a:latin typeface="Times New Roman"/>
              </a:rPr>
              <a:t>1. </a:t>
            </a: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Конституція України, 1996 р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2. Кодекс Законів про працю, 1971 р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3. Кодекс цивільного захисту України, 2013 р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4. Закон України «Про охорону праці», нова редакція від 2002 р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5. Закон України «Про забезпечення санітарного та епідеміологічного благополуччя населення», 1994 р. (редакція 2015 р.)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20202"/>
                </a:solidFill>
                <a:latin typeface="Times New Roman"/>
              </a:rPr>
              <a:t>Закон України «Про загальнообов’язкове державне соціальне страхування», 2017 р. 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7. Закон України «Про дорожній рух», 1993 р.</a:t>
            </a:r>
            <a:r>
              <a:rPr b="0" lang="ru-RU" sz="2400" spc="-1" strike="noStrike">
                <a:solidFill>
                  <a:srgbClr val="020202"/>
                </a:solidFill>
                <a:latin typeface="Times New Roman"/>
              </a:rPr>
              <a:t>,</a:t>
            </a: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 зі змінами 2018 р. та ін.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20202"/>
                </a:solidFill>
                <a:latin typeface="Times New Roman"/>
              </a:rPr>
              <a:t>8. Підзаконні нормативно-правові акти. </a:t>
            </a: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533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5229000"/>
            <a:ext cx="799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68463"/>
                </a:solidFill>
                <a:uFillTx/>
                <a:latin typeface="Verdana"/>
                <a:hlinkClick r:id="rId1"/>
              </a:rPr>
              <a:t>Для семінару. Директори\pok_npaop_red_2018_01_15.pdf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rcRect l="21077" t="24777" r="5586" b="19576"/>
          <a:stretch/>
        </p:blipFill>
        <p:spPr>
          <a:xfrm>
            <a:off x="900000" y="1268280"/>
            <a:ext cx="741708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38188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Організація роботи з охорони праці та БЖД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4" name="Group 26"/>
          <p:cNvGrpSpPr/>
          <p:nvPr/>
        </p:nvGrpSpPr>
        <p:grpSpPr>
          <a:xfrm>
            <a:off x="1308240" y="1295280"/>
            <a:ext cx="5814720" cy="4724640"/>
            <a:chOff x="1308240" y="1295280"/>
            <a:chExt cx="5814720" cy="4724640"/>
          </a:xfrm>
        </p:grpSpPr>
        <p:pic>
          <p:nvPicPr>
            <p:cNvPr id="235" name="Text Box 28" descr=""/>
            <p:cNvPicPr/>
            <p:nvPr/>
          </p:nvPicPr>
          <p:blipFill>
            <a:blip r:embed="rId1"/>
            <a:stretch/>
          </p:blipFill>
          <p:spPr>
            <a:xfrm>
              <a:off x="1308240" y="1295280"/>
              <a:ext cx="712080" cy="472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29"/>
            <p:cNvSpPr/>
            <p:nvPr/>
          </p:nvSpPr>
          <p:spPr>
            <a:xfrm>
              <a:off x="2674080" y="1379880"/>
              <a:ext cx="4448880" cy="761040"/>
            </a:xfrm>
            <a:prstGeom prst="rect">
              <a:avLst/>
            </a:prstGeom>
            <a:solidFill>
              <a:srgbClr val="d7e4be"/>
            </a:solidFill>
            <a:ln w="25560">
              <a:solidFill>
                <a:srgbClr val="2a46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єдин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а</a:t>
              </a: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 систем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а</a:t>
              </a: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 організації роботи з охорони праці та безпеки життєдіяльності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7" name="Text Box 30"/>
            <p:cNvSpPr/>
            <p:nvPr/>
          </p:nvSpPr>
          <p:spPr>
            <a:xfrm>
              <a:off x="2674080" y="3123720"/>
              <a:ext cx="4448880" cy="1667880"/>
            </a:xfrm>
            <a:prstGeom prst="rect">
              <a:avLst/>
            </a:prstGeom>
            <a:solidFill>
              <a:srgbClr val="d7e4be"/>
            </a:solidFill>
            <a:ln w="25560">
              <a:solidFill>
                <a:srgbClr val="2a46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організаці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я</a:t>
              </a: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 роботи з охорони праці та безпеки життєдіяльності під час проведення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: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- </a:t>
              </a: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науково-дослідної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5338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позакласної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5338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335338"/>
                  </a:solidFill>
                  <a:latin typeface="Times New Roman"/>
                </a:rPr>
                <a:t>позашкільної</a:t>
              </a: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;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35338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адміністративно-гоподарчої діяльності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8" name="Text Box 31"/>
            <p:cNvSpPr/>
            <p:nvPr/>
          </p:nvSpPr>
          <p:spPr>
            <a:xfrm>
              <a:off x="2674080" y="2289600"/>
              <a:ext cx="4448880" cy="605880"/>
            </a:xfrm>
            <a:prstGeom prst="rect">
              <a:avLst/>
            </a:prstGeom>
            <a:solidFill>
              <a:srgbClr val="d7e4be"/>
            </a:solidFill>
            <a:ln w="25560">
              <a:solidFill>
                <a:srgbClr val="2a46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бов’язки посадових осіб щодо забезпечення здорових і безпечних умов осв</a:t>
              </a:r>
              <a:r>
                <a:rPr b="0" lang="uk-UA" sz="1400" spc="-1" strike="noStrike">
                  <a:solidFill>
                    <a:srgbClr val="000000"/>
                  </a:solidFill>
                  <a:latin typeface="Times New Roman"/>
                </a:rPr>
                <a:t>ітнього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процесу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9" name="Text Box 32"/>
            <p:cNvSpPr/>
            <p:nvPr/>
          </p:nvSpPr>
          <p:spPr>
            <a:xfrm>
              <a:off x="2674080" y="5246280"/>
              <a:ext cx="4448880" cy="606240"/>
            </a:xfrm>
            <a:prstGeom prst="rect">
              <a:avLst/>
            </a:prstGeom>
            <a:solidFill>
              <a:srgbClr val="d7e4be"/>
            </a:solidFill>
            <a:ln w="25560">
              <a:solidFill>
                <a:srgbClr val="2a46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335338"/>
                  </a:solidFill>
                  <a:latin typeface="Times New Roman"/>
                </a:rPr>
                <a:t>порядок проведення та реєстрації інструктажів з безпеки життєдіяльності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0" name="Line 33"/>
            <p:cNvSpPr/>
            <p:nvPr/>
          </p:nvSpPr>
          <p:spPr>
            <a:xfrm>
              <a:off x="1989360" y="1683360"/>
              <a:ext cx="684360" cy="0"/>
            </a:xfrm>
            <a:prstGeom prst="line">
              <a:avLst/>
            </a:prstGeom>
            <a:ln w="25560">
              <a:solidFill>
                <a:srgbClr val="2a46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1" name="Line 34"/>
            <p:cNvSpPr/>
            <p:nvPr/>
          </p:nvSpPr>
          <p:spPr>
            <a:xfrm>
              <a:off x="1989360" y="2592360"/>
              <a:ext cx="684360" cy="0"/>
            </a:xfrm>
            <a:prstGeom prst="line">
              <a:avLst/>
            </a:prstGeom>
            <a:ln w="25560">
              <a:solidFill>
                <a:srgbClr val="2a46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2" name="Line 35"/>
            <p:cNvSpPr/>
            <p:nvPr/>
          </p:nvSpPr>
          <p:spPr>
            <a:xfrm>
              <a:off x="1989360" y="3957840"/>
              <a:ext cx="684360" cy="0"/>
            </a:xfrm>
            <a:prstGeom prst="line">
              <a:avLst/>
            </a:prstGeom>
            <a:ln w="25560">
              <a:solidFill>
                <a:srgbClr val="2a46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1989360" y="5474160"/>
              <a:ext cx="684360" cy="0"/>
            </a:xfrm>
            <a:prstGeom prst="line">
              <a:avLst/>
            </a:prstGeom>
            <a:ln w="25560">
              <a:solidFill>
                <a:srgbClr val="2a462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44" name="Rectangle 2"/>
          <p:cNvSpPr/>
          <p:nvPr/>
        </p:nvSpPr>
        <p:spPr>
          <a:xfrm>
            <a:off x="0" y="6172200"/>
            <a:ext cx="91440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5338"/>
                </a:solidFill>
                <a:latin typeface="Tahoma"/>
              </a:rPr>
              <a:t>Наказ МОНУ від 26.12.2017 № 1669 “Положення про організацію роботи з охорони праці та безпеки життєдіяльності учасників освітнього процесу в установах і закладах освіти”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391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60a07"/>
                </a:solidFill>
                <a:latin typeface="Verdana"/>
              </a:rPr>
              <a:t>Основні завдання служби охорони праці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900000" y="3933720"/>
            <a:ext cx="33530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 flipH="1">
            <a:off x="899640" y="3141720"/>
            <a:ext cx="416556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 flipH="1">
            <a:off x="900000" y="2276640"/>
            <a:ext cx="50342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1116000" y="242100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Надання роз'яснень працівників з охорони праці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1285920" y="3284640"/>
            <a:ext cx="147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Дотримання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вимог безпеки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1187280" y="4076640"/>
            <a:ext cx="174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Сучасні безпечні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технології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1152720" y="4941720"/>
            <a:ext cx="151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Профілактичні 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ходи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59" name="Group 16"/>
          <p:cNvGrpSpPr/>
          <p:nvPr/>
        </p:nvGrpSpPr>
        <p:grpSpPr>
          <a:xfrm>
            <a:off x="2556000" y="2276640"/>
            <a:ext cx="5825520" cy="3342600"/>
            <a:chOff x="2556000" y="2276640"/>
            <a:chExt cx="5825520" cy="3342600"/>
          </a:xfrm>
        </p:grpSpPr>
        <p:sp>
          <p:nvSpPr>
            <p:cNvPr id="260" name="Freeform 17"/>
            <p:cNvSpPr/>
            <p:nvPr/>
          </p:nvSpPr>
          <p:spPr>
            <a:xfrm>
              <a:off x="7799400" y="2276640"/>
              <a:ext cx="57564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1370c"/>
                </a:gs>
                <a:gs pos="50000">
                  <a:srgbClr val="d2761a"/>
                </a:gs>
                <a:gs pos="100000">
                  <a:srgbClr val="613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5038560" y="2276640"/>
              <a:ext cx="3342960" cy="5410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76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7219800" y="3108240"/>
              <a:ext cx="576000" cy="84096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93d2e"/>
                </a:gs>
                <a:gs pos="50000">
                  <a:srgbClr val="368463"/>
                </a:gs>
                <a:gs pos="100000">
                  <a:srgbClr val="193d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208400" y="3108240"/>
              <a:ext cx="3593520" cy="53928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6638760" y="3940200"/>
              <a:ext cx="572760" cy="8442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10e5f"/>
                </a:gs>
                <a:gs pos="50000">
                  <a:srgbClr val="481ece"/>
                </a:gs>
                <a:gs pos="100000">
                  <a:srgbClr val="210e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060960" y="4773600"/>
              <a:ext cx="577440" cy="8456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5000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557440" y="4778280"/>
              <a:ext cx="4080960" cy="53928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149640" y="2430360"/>
              <a:ext cx="183780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8" name="Rectangle 25"/>
            <p:cNvSpPr/>
            <p:nvPr/>
          </p:nvSpPr>
          <p:spPr>
            <a:xfrm>
              <a:off x="5045040" y="2817720"/>
              <a:ext cx="2766600" cy="304560"/>
            </a:xfrm>
            <a:prstGeom prst="rect">
              <a:avLst/>
            </a:prstGeom>
            <a:gradFill rotWithShape="0">
              <a:gsLst>
                <a:gs pos="0">
                  <a:srgbClr val="985613"/>
                </a:gs>
                <a:gs pos="50000">
                  <a:srgbClr val="d2761a"/>
                </a:gs>
                <a:gs pos="100000">
                  <a:srgbClr val="9856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Verdana"/>
                </a:rPr>
                <a:t>Інформування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9" name="Rectangle 26"/>
            <p:cNvSpPr/>
            <p:nvPr/>
          </p:nvSpPr>
          <p:spPr>
            <a:xfrm>
              <a:off x="4209840" y="3647880"/>
              <a:ext cx="3016080" cy="298080"/>
            </a:xfrm>
            <a:prstGeom prst="rect">
              <a:avLst/>
            </a:prstGeom>
            <a:gradFill rotWithShape="0">
              <a:gsLst>
                <a:gs pos="0">
                  <a:srgbClr val="276048"/>
                </a:gs>
                <a:gs pos="50000">
                  <a:srgbClr val="368463"/>
                </a:gs>
                <a:gs pos="100000">
                  <a:srgbClr val="27604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Verdana"/>
                </a:rPr>
                <a:t>Контроль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3384360" y="3940200"/>
              <a:ext cx="3833640" cy="543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481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1" name="Rectangle 28"/>
            <p:cNvSpPr/>
            <p:nvPr/>
          </p:nvSpPr>
          <p:spPr>
            <a:xfrm>
              <a:off x="3387600" y="4483080"/>
              <a:ext cx="3263400" cy="298080"/>
            </a:xfrm>
            <a:prstGeom prst="rect">
              <a:avLst/>
            </a:prstGeom>
            <a:gradFill rotWithShape="0">
              <a:gsLst>
                <a:gs pos="0">
                  <a:srgbClr val="341695"/>
                </a:gs>
                <a:gs pos="50000">
                  <a:srgbClr val="481ece"/>
                </a:gs>
                <a:gs pos="100000">
                  <a:srgbClr val="3416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Verdana"/>
                </a:rPr>
                <a:t>Вивчення та сприяння 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ffffff"/>
                  </a:solidFill>
                  <a:latin typeface="Verdana"/>
                </a:rPr>
                <a:t>впровадженню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2" name="Rectangle 29"/>
            <p:cNvSpPr/>
            <p:nvPr/>
          </p:nvSpPr>
          <p:spPr>
            <a:xfrm>
              <a:off x="2556000" y="5319720"/>
              <a:ext cx="3512880" cy="29664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b2b2b2"/>
                </a:gs>
                <a:gs pos="100000">
                  <a:srgbClr val="818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335338"/>
                  </a:solidFill>
                  <a:latin typeface="Verdana"/>
                </a:rPr>
                <a:t>Організація проведення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17:39:40Z</dcterms:created>
  <dc:creator>User</dc:creator>
  <dc:description/>
  <dc:language>en-US</dc:language>
  <cp:lastModifiedBy>office</cp:lastModifiedBy>
  <dcterms:modified xsi:type="dcterms:W3CDTF">2018-09-27T12:45:41Z</dcterms:modified>
  <cp:revision>27</cp:revision>
  <dc:subject/>
  <dc:title>Служба охорони праці. Права, завдання, обов'язки</dc:title>
</cp:coreProperties>
</file>